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17.jpeg" ContentType="image/jpeg"/>
  <Override PartName="/ppt/media/image2.jpeg" ContentType="image/jpeg"/>
  <Override PartName="/ppt/media/image3.wmf" ContentType="image/x-wmf"/>
  <Override PartName="/ppt/media/image13.jpeg" ContentType="image/jpeg"/>
  <Override PartName="/ppt/media/image4.jpeg" ContentType="image/jpeg"/>
  <Override PartName="/ppt/media/image6.jpeg" ContentType="image/jpeg"/>
  <Override PartName="/ppt/media/image11.jpeg" ContentType="image/jpeg"/>
  <Override PartName="/ppt/media/image16.wmf" ContentType="image/x-wmf"/>
  <Override PartName="/ppt/media/image8.png" ContentType="image/png"/>
  <Override PartName="/ppt/media/image14.jpeg" ContentType="image/jpeg"/>
  <Override PartName="/ppt/media/image15.wmf" ContentType="image/x-wmf"/>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38DE-8F73-434D-BCA3-87AEA9672E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097E-97CC-4EB9-8334-FE19BBBA90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60561-2E25-4D23-AE56-BB7AA38DA6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04840" y="696960"/>
            <a:ext cx="4648320" cy="3486240"/>
          </a:xfrm>
          <a:prstGeom prst="rect">
            <a:avLst/>
          </a:prstGeom>
          <a:ln w="0">
            <a:noFill/>
          </a:ln>
        </p:spPr>
      </p:sp>
      <p:sp>
        <p:nvSpPr>
          <p:cNvPr id="2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1" lang="en-US" sz="1200" spc="-1" strike="noStrike">
                <a:solidFill>
                  <a:srgbClr val="000000"/>
                </a:solidFill>
                <a:latin typeface="Arial"/>
              </a:rPr>
              <a:t> Financial Services Division</a:t>
            </a:r>
            <a:r>
              <a:rPr b="0" lang="en-US" sz="1200" spc="-1" strike="noStrike">
                <a:solidFill>
                  <a:srgbClr val="000000"/>
                </a:solidFill>
                <a:latin typeface="Arial"/>
              </a:rPr>
              <a:t> is the operational area of the Ban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supplying currency and coin to financial institutions. The Fed orders new currency from the Bureau of Engraving &amp; Printing, and coin from the U.S. Mint, and is responsible for destroying unfit curren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provider of check clearing services, the Fed processes about 1/3 of all of the checks written in the 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mated Clearinghouse (or ACH)  is an electronic form of payments processing, which you may be familiar with if you work and get your pay deposited directly into your accou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of electronic payments processing is FedWire, which is utilized primarily by financial institutions to transfer very large sums of money electron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 acts as the fiscal agent (bank) for the United States Treasur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B675B-D1FF-4EDC-A41B-A5439C4408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Research Division </a:t>
            </a:r>
            <a:r>
              <a:rPr b="0" lang="en-US" sz="1200" spc="-1" strike="noStrike">
                <a:solidFill>
                  <a:srgbClr val="000000"/>
                </a:solidFill>
                <a:latin typeface="Arial"/>
              </a:rPr>
              <a:t>is comprised of economists at the Reserve Banks and the Board of Governors. The primary responsibility of the research economists is to prepare the Reserve Bank presidents for his or her participation in FOMC meet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of the research staff gather, analyze and disseminate information about the econom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every aspect of the economy, from the regional level to the international level, and studies range from analyzing regional banking markets to designing and testing econometric forecasting models to predict the outcome of various economic scenari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sts are looking for key pieces of information that will contribute to better monetary policymak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A631-5F27-4327-96B8-901AAFE9B4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04840" y="696960"/>
            <a:ext cx="4648320" cy="3486240"/>
          </a:xfrm>
          <a:prstGeom prst="rect">
            <a:avLst/>
          </a:prstGeom>
          <a:ln w="0">
            <a:noFill/>
          </a:ln>
        </p:spPr>
      </p:sp>
      <p:sp>
        <p:nvSpPr>
          <p:cNvPr id="2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netary poli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 manages the nation’s money supply to keep inflation low and the economy growing at a sustainable 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ons that the Fed takes today influence the economy and the inflation rate for some time to come. Consequently, policymakers must be forward-looking and must take pre-emptive action to head off inflation before it gathers momentu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3730-0D8E-4460-A7DE-13052358F1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304560" y="4190760"/>
            <a:ext cx="6172200" cy="41828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Open Market Committee (FOMC) is the primary group responsible for formulating and implementing monetary poli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Fed governors and the twelve Bank Presidents participate in the economic discussions at each meeting, with the Reserve Bank Presidents bringing to the table regional economic news gleaned from their local boards of directors and staff economis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resident and each of the governors are given an opportunity to present their opin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lve of the 19 members vote at the meetings—all seven governors and five of the Reserve Bank Presidents, with the president of the New York Fed always a voting member, because Open Market Operations are carried out at the trading desk of the New York Fed.  The other four voting positions rotate yearly among the remaining eleven Reserve Bank presid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changes are decided by consensus and are announced immediately following each meet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37F3-97EC-4CA4-9B1B-2E7774146C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04840" y="696960"/>
            <a:ext cx="4648320" cy="3486240"/>
          </a:xfrm>
          <a:prstGeom prst="rect">
            <a:avLst/>
          </a:prstGeom>
          <a:ln w="0">
            <a:noFill/>
          </a:ln>
        </p:spPr>
      </p:sp>
      <p:sp>
        <p:nvSpPr>
          <p:cNvPr id="2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etary policy is designed to effectively promote the goals of maximum employment, stable prices, and sustainable economic growth.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 is consistently striving for a balance between oftentimes conflicting goals of monetary policy</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the economy is growing at too rapid a pace, the Fed may dampen that growth by influencing interest rates to rise, which may have the effect of putting some people out of work—a direct challenge to the goal of maximum employ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AC504-9924-410D-81FB-E5566B0406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s the Fed utilizes to influence the economy (or affect the amount of funds in the banking system)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ount Rat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interest charged to banks that need to borrow from the Fed to cover temporary deposit drains (short-term “discount window” lo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rve Requirem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deposits that banks must hold in reserve, either in their vaults or on deposit at a Reserve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Open Market Operations:</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and most flexible tool is that of Open Market Operations, which involves the buying and selling of U.S. government securities. This tool is directed by the FOMC and carried out at the domestic trading desk at the Federal Reserve Bank of New Yor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4439-CDD2-41BE-A0FB-5C88D75981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685800" y="4416120"/>
            <a:ext cx="5486400" cy="4182840"/>
          </a:xfrm>
          <a:prstGeom prst="rect">
            <a:avLst/>
          </a:prstGeom>
          <a:noFill/>
          <a:ln w="0">
            <a:noFill/>
          </a:ln>
        </p:spPr>
        <p:txBody>
          <a:bodyPr anchor="t">
            <a:noAutofit/>
          </a:bodyPr>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a:t>
            </a:r>
            <a:endParaRPr b="0" lang="en-US" sz="12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s to loans made directly to commercial banks from the Federal Reserve System</a:t>
            </a:r>
            <a:endParaRPr b="0" lang="en-US" sz="12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set at one percentage point above the Federal Funds Rate – incentive not to borrow from the Lender of Last Resort</a:t>
            </a:r>
            <a:endParaRPr b="0" lang="en-US" sz="1200" spc="-1" strike="noStrike">
              <a:solidFill>
                <a:srgbClr val="000000"/>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Funds Rate</a:t>
            </a:r>
            <a:endParaRPr b="0" lang="en-US" sz="12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west of short-term market interest rates which banks charge each other on overnight loans. The Fed achieves this rate through Open Market Opera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A9FC-6289-4B1C-B250-7B7F871E15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304560" y="4403520"/>
            <a:ext cx="601956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Reserve Bank Boards of Directors have 9 members, and each Branch’s Board consists of 7 member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ors are chosen because of their contributions as a member of their industry and because they provide a diverse economic and cultural picture of the region.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sectors of business are represented such as agriculture, commerce, labor, and banking.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ors also make a recommendation on the Discount (the rate that the Fed charges banks that borrow money to cover individual bank reserve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utes of the meeting and their votes are sent to the Bank’s president and is combined with key economic information collected by the District economists for the Federal Open Market committee meeting.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ors provide grassroots intelligence for policy decisions made at the national leve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5E23-F34E-499F-87DE-58A5C5468E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Lowering Rate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of borrowing money goes down.</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ed consumer spending increases economic activity.</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interest rates cut the cost of capital for businesses and improve profit margins and encourages expansion.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EB5D2-A8EA-4A3A-895D-E4B171F467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685800" y="4416120"/>
            <a:ext cx="548640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 generally raises rates as an effective way to quell inflation (a sustained rise in the general price level).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means that your money is worth les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Raising Rate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es have difficulty in obtaining loans for expansion; unemployment rise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will pay higher interest rates on credit cards and mortgages, which can cool spend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DC7A4-C47A-407D-A260-D2268B50D6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F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Reserve is the central bank of the United States and its purpose is to help ensure a stable economy for the n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as a result of the Federal Reserve Act, signed in 1913.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s no congressionally appropriated funds. Its operations are financed primarily from the interest earned on the U.S. government securities it acquires in the course of its monetary policy a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major source of income is derived from the fees received for certain services provided to depository institu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ayment of certain expenses, all the net earnings of the Federal Reserve Banks are transferred to the U.S. Treasury. In 2004, for example, the Fed paid approximately $18.1 billion to the U.S. Treasur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60ED5-CAF0-4469-B7D6-A02FE1AAAD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the nation’s monetary policy, Supervising and regulating banking institutions, and operating a nationwide payment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will var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employment, price stability, sustainable economic growt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ates induce economic activity; higher rates calm inflation, slows down spe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is a sustained increase in the general price level; inflation is a concern because it means your money is worth less over 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Open Market Committee (FOM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 – the rate of interest charged to banks who borrow money from the Federal Reserve; Fed Funds Rate – the rate of interest banks charge each other to borrow mone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B280-65F1-474F-B68C-B1DA8314CB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ibilities of the Federal Reserve System as a whole fall into the following three general are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the nation’s monetary poli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vising and regulating banking institu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 nationwide paymen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9070F-59FD-4D8A-9EF2-A626B76CBA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685800" y="4416120"/>
            <a:ext cx="548640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of Governors in Washington, D.C. oversees the activities of the twelve independently operated District Reserve Banks across the country.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 12 Federal Reserve Banks is separately incorporated with a Board of Directors. The District Federal Reserve Banks, along with their 25 branches, are located in major cities across the country, giving the System a strong grass-roots found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Open Market Committee (FOMC) is the chief policymaking body of the Federal Reserve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246E-8D9D-4E12-B14E-D67194C4BE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members (governors) of the Federal Reserve Board are appointed by the President and subject to approval by the Senat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provides for public accountability in the System, but because these governors serve staggered 14-year terms, the Board is insulated somewhat from short-term political pressure. Not one president can load the Board with candidates who will further a political agend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the Board includes: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ing the activities of the regional Reserve Bank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alyzing domestic and international economic issues,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ercising broad responsibility in the nation’s payments system, and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ministering laws regarding consumer credit protection.</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B13E-AD3F-43B6-A39E-DCEBA24C01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685800" y="4416120"/>
            <a:ext cx="548640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members (governors) of the Federal Reserve Board are appointed by the President and subject to approval by the Senat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provides for public accountability in the System, but because these governors serve staggered 14-year terms, the Board is insulated somewhat from short-term political pressure. Not one president can load the Board with candidates who will further a political agend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the Board includes: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ing the activities of the regional Reserve Bank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alyzing domestic and international economic issues,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ercising broad responsibility in the nation’s payments system, and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ministering laws regarding consumer credit protection.</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C81F-0C9D-415D-A7CA-BB87EE7155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 Banks are the decentralized components that carry out the Fed’s policies and activities at the regional leve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bank is identified with a corresponding letter and number to identify Distri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Divisions within the Fed that carry out its mandated responsibilities: Supervision &amp; Regulation, Financial Services and Researc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DEF5-654E-4A8D-B6F8-C6A7CCA7FC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upervision &amp; Regulation Division</a:t>
            </a:r>
            <a:r>
              <a:rPr b="0" lang="en-US" sz="1200" spc="-1" strike="noStrike">
                <a:solidFill>
                  <a:srgbClr val="000000"/>
                </a:solidFill>
                <a:latin typeface="Arial"/>
              </a:rPr>
              <a:t> exists to promote the safety and soundness of the banking system, foster stability in financial markets, and ensure compliance with applicable laws and regulation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four federal regulatory agencie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fice of the Comptroller of the Currency (OCC)</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deral Deposit Insurance Corporation (FDIC), </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fice of Thrift Supervision (OT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oversight of bank holding companies and state-chartered banks that are members of the Federal Reserve System; examines the health of banks; analyzes proposed mergers and acquisitions of banks; and monitors banks’ management, capital levels, and quality of asset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s a major role in international banking activitie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eeing U.S. banking organizations that conduct operations abroad;</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ing the establishment of foreign bank branches in the U.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ing supervisory policy and practices regarding foreign lending of member bank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implementing consumer protection laws, which cover almost all financial transactions involving consumers, including ATMs, credit cards, checking and savings accounts, and loa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Rectangle 4"/>
          <p:cNvSpPr/>
          <p:nvPr/>
        </p:nvSpPr>
        <p:spPr>
          <a:xfrm>
            <a:off x="533520" y="5105520"/>
            <a:ext cx="5715000" cy="4506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A793-9E81-4A19-AA47-A8385CEFF5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04840" y="696960"/>
            <a:ext cx="4648320" cy="3486240"/>
          </a:xfrm>
          <a:prstGeom prst="rect">
            <a:avLst/>
          </a:prstGeom>
          <a:ln w="0">
            <a:noFill/>
          </a:ln>
        </p:spPr>
      </p:sp>
      <p:sp>
        <p:nvSpPr>
          <p:cNvPr id="2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upervision &amp; Regulation Division</a:t>
            </a:r>
            <a:r>
              <a:rPr b="0" lang="en-US" sz="1200" spc="-1" strike="noStrike">
                <a:solidFill>
                  <a:srgbClr val="000000"/>
                </a:solidFill>
                <a:latin typeface="Arial"/>
              </a:rPr>
              <a:t> exists to promote the safety and soundness of the banking system, foster stability in financial markets, and ensure compliance with applicable laws and regulation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four federal regulatory agencie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fice of the Comptroller of the Currency (OCC)</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deral Deposit Insurance Corporation (FDIC), </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fice of Thrift Supervision (OT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oversight of bank holding companies and state-chartered banks that are members of the Federal Reserve System; examines the health of banks; analyzes proposed mergers and acquisitions of banks; and monitors banks’ management, capital levels, and quality of asset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s a major role in international banking activitie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eeing U.S. banking organizations that conduct operations abroad;</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ing the establishment of foreign bank branches in the U.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ing supervisory policy and practices regarding foreign lending of member bank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implementing consumer protection laws, which cover almost all financial transactions involving consumers, including ATMs, credit cards, checking and savings accounts, and loa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Rectangle 4"/>
          <p:cNvSpPr/>
          <p:nvPr/>
        </p:nvSpPr>
        <p:spPr>
          <a:xfrm>
            <a:off x="533520" y="5105520"/>
            <a:ext cx="5715000" cy="4506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AB3F2-97FD-4EE5-A99D-2BBE1C7DD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5A21B-E49C-4D07-B870-7A869EB98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E0317-793B-4A2D-9499-0E69DD176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B049D-B63D-4B45-A059-8A53948C4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26062-3A78-435E-86A3-783B66EEF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54097-6997-491B-9297-CA86B210A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BEFAE-B157-492E-A6B2-48419B483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1FF7F-FA4F-4458-8FDE-C2C891D24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E07E8-FF46-4B3E-8141-7529AF62B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623EA-336A-44B7-8E69-2C2720628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49CA4-EE2B-457B-84A2-7211C69B4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77D98-A5CB-4B9E-B7EB-B188F43BC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1551E-8AB8-4F86-B303-AD08D732E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3A800-AB3F-44CB-8136-2EC045DAB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A791A-CB64-4D4D-9F9D-9EED2EDA3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C6887-EA31-48EA-A40A-76CD9D6DC5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26D5E-ABFD-404D-947F-975186F9B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2E797-BD0D-41E9-8F62-053A2C535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CA8DB-2E8C-4894-A4DC-E8C0BBDD4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CA2ED-6563-4CEF-80A8-BCE31370F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94CC5-0B87-4B48-A38F-47EB3C1E8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21CDA-3EA5-4D04-ACE6-5D60E076E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7F6E3-BE92-4F31-9294-A06BBEAD4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EDF50-40AB-47B2-838D-1B6EB39D8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BBBA-8FCF-4EA5-B9FA-049FFEDC9C8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3D947-F7AB-4CC3-B4F6-6326D6410E7E}"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676520"/>
            <a:ext cx="769608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The Federal Reserve In Action</a:t>
            </a:r>
            <a:endParaRPr b="0" lang="en-US" sz="4800" spc="-1" strike="noStrike">
              <a:solidFill>
                <a:srgbClr val="420000"/>
              </a:solidFill>
              <a:latin typeface="Times New Roman"/>
            </a:endParaRPr>
          </a:p>
        </p:txBody>
      </p:sp>
      <p:pic>
        <p:nvPicPr>
          <p:cNvPr id="104" name="Picture 6" descr="diploma_guide"/>
          <p:cNvPicPr/>
          <p:nvPr/>
        </p:nvPicPr>
        <p:blipFill>
          <a:blip r:embed="rId1"/>
          <a:stretch/>
        </p:blipFill>
        <p:spPr>
          <a:xfrm>
            <a:off x="3276720" y="3657600"/>
            <a:ext cx="2141280" cy="23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inancial Services</a:t>
            </a:r>
            <a:endParaRPr b="0" lang="en-US" sz="4400" spc="-1" strike="noStrike">
              <a:solidFill>
                <a:srgbClr val="420000"/>
              </a:solidFill>
              <a:latin typeface="Times New Roman"/>
            </a:endParaRPr>
          </a:p>
        </p:txBody>
      </p:sp>
      <p:sp>
        <p:nvSpPr>
          <p:cNvPr id="132" name="PlaceHolder 2"/>
          <p:cNvSpPr>
            <a:spLocks noGrp="1"/>
          </p:cNvSpPr>
          <p:nvPr>
            <p:ph/>
          </p:nvPr>
        </p:nvSpPr>
        <p:spPr>
          <a:xfrm>
            <a:off x="456840" y="2133360"/>
            <a:ext cx="3962520" cy="419076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y currency and coin to banking institution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 more than one-third of nation’s check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 funds electronically (ACH, Fedwire)</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 as bank for the U.S. Treasury</a:t>
            </a:r>
            <a:endParaRPr b="0" lang="en-US" sz="2400" spc="-1" strike="noStrike">
              <a:solidFill>
                <a:srgbClr val="000000"/>
              </a:solidFill>
              <a:latin typeface="Times New Roman"/>
            </a:endParaRPr>
          </a:p>
        </p:txBody>
      </p:sp>
      <p:pic>
        <p:nvPicPr>
          <p:cNvPr id="133" name="Picture 4" descr="dollar"/>
          <p:cNvPicPr/>
          <p:nvPr/>
        </p:nvPicPr>
        <p:blipFill>
          <a:blip r:embed="rId1"/>
          <a:stretch/>
        </p:blipFill>
        <p:spPr>
          <a:xfrm>
            <a:off x="4572000" y="2521080"/>
            <a:ext cx="4572000" cy="273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esearch</a:t>
            </a:r>
            <a:endParaRPr b="0" lang="en-US" sz="4400" spc="-1" strike="noStrike">
              <a:solidFill>
                <a:srgbClr val="420000"/>
              </a:solidFill>
              <a:latin typeface="Times New Roman"/>
            </a:endParaRPr>
          </a:p>
        </p:txBody>
      </p:sp>
      <p:pic>
        <p:nvPicPr>
          <p:cNvPr id="135" name="Picture 4" descr="plan"/>
          <p:cNvPicPr/>
          <p:nvPr/>
        </p:nvPicPr>
        <p:blipFill>
          <a:blip r:embed="rId1"/>
          <a:stretch/>
        </p:blipFill>
        <p:spPr>
          <a:xfrm>
            <a:off x="380880" y="2104920"/>
            <a:ext cx="3962520" cy="3864240"/>
          </a:xfrm>
          <a:prstGeom prst="rect">
            <a:avLst/>
          </a:prstGeom>
          <a:ln w="0">
            <a:noFill/>
          </a:ln>
        </p:spPr>
      </p:pic>
      <p:sp>
        <p:nvSpPr>
          <p:cNvPr id="136" name="PlaceHolder 2"/>
          <p:cNvSpPr>
            <a:spLocks noGrp="1"/>
          </p:cNvSpPr>
          <p:nvPr>
            <p:ph/>
          </p:nvPr>
        </p:nvSpPr>
        <p:spPr>
          <a:xfrm>
            <a:off x="4648320" y="1828440"/>
            <a:ext cx="4038480" cy="4724280"/>
          </a:xfrm>
          <a:prstGeom prst="rect">
            <a:avLst/>
          </a:prstGeom>
          <a:noFill/>
          <a:ln w="0">
            <a:noFill/>
          </a:ln>
        </p:spPr>
        <p:txBody>
          <a:bodyPr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her, analyze and disseminate economic data</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all aspects of the economy (regional to international levels)</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regional and national markets and economic data</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nd test econometric models used to produce hard data that factor into policymaking deci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Monetary Policy</a:t>
            </a:r>
            <a:endParaRPr b="0" lang="en-US" sz="4400" spc="-1" strike="noStrike">
              <a:solidFill>
                <a:srgbClr val="420000"/>
              </a:solidFill>
              <a:latin typeface="Times New Roman"/>
            </a:endParaRPr>
          </a:p>
        </p:txBody>
      </p:sp>
      <p:sp>
        <p:nvSpPr>
          <p:cNvPr id="138"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changes affect the nation’s supply of money and credit.</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ons have real short- and long-term effects on the economy.</a:t>
            </a:r>
            <a:endParaRPr b="0" lang="en-US" sz="2800" spc="-1" strike="noStrike">
              <a:solidFill>
                <a:srgbClr val="000000"/>
              </a:solidFill>
              <a:latin typeface="Times New Roman"/>
            </a:endParaRPr>
          </a:p>
        </p:txBody>
      </p:sp>
      <p:pic>
        <p:nvPicPr>
          <p:cNvPr id="139" name="Picture 18" descr="board_small"/>
          <p:cNvPicPr/>
          <p:nvPr/>
        </p:nvPicPr>
        <p:blipFill>
          <a:blip r:embed="rId1"/>
          <a:stretch/>
        </p:blipFill>
        <p:spPr>
          <a:xfrm>
            <a:off x="4572000" y="1981080"/>
            <a:ext cx="4267080" cy="42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ederal Open Market Committee</a:t>
            </a:r>
            <a:endParaRPr b="0" lang="en-US" sz="4400" spc="-1" strike="noStrike">
              <a:solidFill>
                <a:srgbClr val="420000"/>
              </a:solidFill>
              <a:latin typeface="Times New Roman"/>
            </a:endParaRPr>
          </a:p>
        </p:txBody>
      </p:sp>
      <p:pic>
        <p:nvPicPr>
          <p:cNvPr id="141" name="Picture 19" descr="fomc_small"/>
          <p:cNvPicPr/>
          <p:nvPr/>
        </p:nvPicPr>
        <p:blipFill>
          <a:blip r:embed="rId1"/>
          <a:stretch/>
        </p:blipFill>
        <p:spPr>
          <a:xfrm>
            <a:off x="304920" y="2133720"/>
            <a:ext cx="3886200" cy="3836880"/>
          </a:xfrm>
          <a:prstGeom prst="rect">
            <a:avLst/>
          </a:prstGeom>
          <a:ln w="0">
            <a:noFill/>
          </a:ln>
        </p:spPr>
      </p:pic>
      <p:sp>
        <p:nvSpPr>
          <p:cNvPr id="142" name="PlaceHolder 2"/>
          <p:cNvSpPr>
            <a:spLocks noGrp="1"/>
          </p:cNvSpPr>
          <p:nvPr>
            <p:ph/>
          </p:nvPr>
        </p:nvSpPr>
        <p:spPr>
          <a:xfrm>
            <a:off x="4419360" y="1905120"/>
            <a:ext cx="4724280" cy="4038480"/>
          </a:xfrm>
          <a:prstGeom prst="rect">
            <a:avLst/>
          </a:prstGeom>
          <a:noFill/>
          <a:ln w="0">
            <a:noFill/>
          </a:ln>
        </p:spPr>
        <p:txBody>
          <a:bodyPr anchor="t">
            <a:normAutofit fontScale="97000"/>
          </a:bodyPr>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s and directs U.S. monetary policy</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 governors</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ve presidents (New York and four others on a rotating basis)</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ting presidents participate fully</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interest rate decision is made by the 12-member Federal Open Market Committee (FOM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Goals of Monetary Policy</a:t>
            </a:r>
            <a:endParaRPr b="0" lang="en-US" sz="4400" spc="-1" strike="noStrike">
              <a:solidFill>
                <a:srgbClr val="420000"/>
              </a:solidFill>
              <a:latin typeface="Times New Roman"/>
            </a:endParaRPr>
          </a:p>
        </p:txBody>
      </p:sp>
      <p:grpSp>
        <p:nvGrpSpPr>
          <p:cNvPr id="144" name="Group 19"/>
          <p:cNvGrpSpPr/>
          <p:nvPr/>
        </p:nvGrpSpPr>
        <p:grpSpPr>
          <a:xfrm>
            <a:off x="1828800" y="1905120"/>
            <a:ext cx="5370480" cy="4663080"/>
            <a:chOff x="1828800" y="1905120"/>
            <a:chExt cx="5370480" cy="4663080"/>
          </a:xfrm>
        </p:grpSpPr>
        <p:grpSp>
          <p:nvGrpSpPr>
            <p:cNvPr id="145" name="Group 13"/>
            <p:cNvGrpSpPr/>
            <p:nvPr/>
          </p:nvGrpSpPr>
          <p:grpSpPr>
            <a:xfrm>
              <a:off x="2590920" y="1905120"/>
              <a:ext cx="3882600" cy="4343040"/>
              <a:chOff x="2590920" y="1905120"/>
              <a:chExt cx="3882600" cy="4343040"/>
            </a:xfrm>
          </p:grpSpPr>
          <p:sp>
            <p:nvSpPr>
              <p:cNvPr id="146" name="AutoShape 12"/>
              <p:cNvSpPr/>
              <p:nvPr/>
            </p:nvSpPr>
            <p:spPr>
              <a:xfrm>
                <a:off x="2592360" y="1909800"/>
                <a:ext cx="3879720" cy="4338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 name="Freeform 14"/>
              <p:cNvSpPr/>
              <p:nvPr/>
            </p:nvSpPr>
            <p:spPr>
              <a:xfrm>
                <a:off x="3886560" y="1905120"/>
                <a:ext cx="2496600" cy="3358440"/>
              </a:xfrm>
              <a:custGeom>
                <a:avLst/>
                <a:gdLst>
                  <a:gd name="textAreaLeft" fmla="*/ 0 w 2496600"/>
                  <a:gd name="textAreaRight" fmla="*/ 2496960 w 2496600"/>
                  <a:gd name="textAreaTop" fmla="*/ 0 h 3358440"/>
                  <a:gd name="textAreaBottom" fmla="*/ 3358800 h 3358440"/>
                </a:gdLst>
                <a:ahLst/>
                <a:rect l="textAreaLeft" t="textAreaTop" r="textAreaRight" b="textAreaBottom"/>
                <a:pathLst>
                  <a:path w="1574" h="2118">
                    <a:moveTo>
                      <a:pt x="600" y="278"/>
                    </a:moveTo>
                    <a:lnTo>
                      <a:pt x="621" y="282"/>
                    </a:lnTo>
                    <a:lnTo>
                      <a:pt x="650" y="287"/>
                    </a:lnTo>
                    <a:lnTo>
                      <a:pt x="679" y="295"/>
                    </a:lnTo>
                    <a:lnTo>
                      <a:pt x="699" y="300"/>
                    </a:lnTo>
                    <a:lnTo>
                      <a:pt x="723" y="307"/>
                    </a:lnTo>
                    <a:lnTo>
                      <a:pt x="746" y="314"/>
                    </a:lnTo>
                    <a:lnTo>
                      <a:pt x="770" y="322"/>
                    </a:lnTo>
                    <a:lnTo>
                      <a:pt x="791" y="328"/>
                    </a:lnTo>
                    <a:lnTo>
                      <a:pt x="816" y="339"/>
                    </a:lnTo>
                    <a:lnTo>
                      <a:pt x="845" y="351"/>
                    </a:lnTo>
                    <a:lnTo>
                      <a:pt x="870" y="362"/>
                    </a:lnTo>
                    <a:lnTo>
                      <a:pt x="894" y="373"/>
                    </a:lnTo>
                    <a:lnTo>
                      <a:pt x="922" y="386"/>
                    </a:lnTo>
                    <a:lnTo>
                      <a:pt x="948" y="400"/>
                    </a:lnTo>
                    <a:lnTo>
                      <a:pt x="972" y="413"/>
                    </a:lnTo>
                    <a:lnTo>
                      <a:pt x="995" y="428"/>
                    </a:lnTo>
                    <a:lnTo>
                      <a:pt x="1015" y="441"/>
                    </a:lnTo>
                    <a:lnTo>
                      <a:pt x="1035" y="456"/>
                    </a:lnTo>
                    <a:lnTo>
                      <a:pt x="1058" y="471"/>
                    </a:lnTo>
                    <a:lnTo>
                      <a:pt x="1083" y="490"/>
                    </a:lnTo>
                    <a:lnTo>
                      <a:pt x="1106" y="508"/>
                    </a:lnTo>
                    <a:lnTo>
                      <a:pt x="1127" y="526"/>
                    </a:lnTo>
                    <a:lnTo>
                      <a:pt x="1148" y="541"/>
                    </a:lnTo>
                    <a:lnTo>
                      <a:pt x="1180" y="570"/>
                    </a:lnTo>
                    <a:lnTo>
                      <a:pt x="1214" y="604"/>
                    </a:lnTo>
                    <a:lnTo>
                      <a:pt x="1240" y="629"/>
                    </a:lnTo>
                    <a:lnTo>
                      <a:pt x="1271" y="667"/>
                    </a:lnTo>
                    <a:lnTo>
                      <a:pt x="1293" y="693"/>
                    </a:lnTo>
                    <a:lnTo>
                      <a:pt x="1316" y="724"/>
                    </a:lnTo>
                    <a:lnTo>
                      <a:pt x="1343" y="759"/>
                    </a:lnTo>
                    <a:lnTo>
                      <a:pt x="1364" y="792"/>
                    </a:lnTo>
                    <a:lnTo>
                      <a:pt x="1386" y="829"/>
                    </a:lnTo>
                    <a:lnTo>
                      <a:pt x="1409" y="865"/>
                    </a:lnTo>
                    <a:lnTo>
                      <a:pt x="1428" y="903"/>
                    </a:lnTo>
                    <a:lnTo>
                      <a:pt x="1447" y="937"/>
                    </a:lnTo>
                    <a:lnTo>
                      <a:pt x="1465" y="978"/>
                    </a:lnTo>
                    <a:lnTo>
                      <a:pt x="1482" y="1017"/>
                    </a:lnTo>
                    <a:lnTo>
                      <a:pt x="1496" y="1058"/>
                    </a:lnTo>
                    <a:lnTo>
                      <a:pt x="1510" y="1103"/>
                    </a:lnTo>
                    <a:lnTo>
                      <a:pt x="1528" y="1158"/>
                    </a:lnTo>
                    <a:lnTo>
                      <a:pt x="1540" y="1210"/>
                    </a:lnTo>
                    <a:lnTo>
                      <a:pt x="1552" y="1262"/>
                    </a:lnTo>
                    <a:lnTo>
                      <a:pt x="1558" y="1313"/>
                    </a:lnTo>
                    <a:lnTo>
                      <a:pt x="1567" y="1374"/>
                    </a:lnTo>
                    <a:lnTo>
                      <a:pt x="1573" y="1449"/>
                    </a:lnTo>
                    <a:lnTo>
                      <a:pt x="1574" y="1507"/>
                    </a:lnTo>
                    <a:lnTo>
                      <a:pt x="1573" y="1564"/>
                    </a:lnTo>
                    <a:lnTo>
                      <a:pt x="1568" y="1618"/>
                    </a:lnTo>
                    <a:lnTo>
                      <a:pt x="1562" y="1669"/>
                    </a:lnTo>
                    <a:lnTo>
                      <a:pt x="1556" y="1723"/>
                    </a:lnTo>
                    <a:lnTo>
                      <a:pt x="1545" y="1778"/>
                    </a:lnTo>
                    <a:lnTo>
                      <a:pt x="1531" y="1837"/>
                    </a:lnTo>
                    <a:lnTo>
                      <a:pt x="1513" y="1899"/>
                    </a:lnTo>
                    <a:lnTo>
                      <a:pt x="1495" y="1955"/>
                    </a:lnTo>
                    <a:lnTo>
                      <a:pt x="1474" y="2010"/>
                    </a:lnTo>
                    <a:lnTo>
                      <a:pt x="1445" y="2064"/>
                    </a:lnTo>
                    <a:lnTo>
                      <a:pt x="1415" y="2118"/>
                    </a:lnTo>
                    <a:lnTo>
                      <a:pt x="951" y="1831"/>
                    </a:lnTo>
                    <a:lnTo>
                      <a:pt x="977" y="1777"/>
                    </a:lnTo>
                    <a:lnTo>
                      <a:pt x="993" y="1736"/>
                    </a:lnTo>
                    <a:lnTo>
                      <a:pt x="1005" y="1691"/>
                    </a:lnTo>
                    <a:lnTo>
                      <a:pt x="1016" y="1648"/>
                    </a:lnTo>
                    <a:lnTo>
                      <a:pt x="1023" y="1608"/>
                    </a:lnTo>
                    <a:lnTo>
                      <a:pt x="1026" y="1568"/>
                    </a:lnTo>
                    <a:lnTo>
                      <a:pt x="1029" y="1530"/>
                    </a:lnTo>
                    <a:lnTo>
                      <a:pt x="1029" y="1489"/>
                    </a:lnTo>
                    <a:lnTo>
                      <a:pt x="1027" y="1441"/>
                    </a:lnTo>
                    <a:lnTo>
                      <a:pt x="1021" y="1395"/>
                    </a:lnTo>
                    <a:lnTo>
                      <a:pt x="1013" y="1344"/>
                    </a:lnTo>
                    <a:lnTo>
                      <a:pt x="1002" y="1303"/>
                    </a:lnTo>
                    <a:lnTo>
                      <a:pt x="985" y="1257"/>
                    </a:lnTo>
                    <a:lnTo>
                      <a:pt x="969" y="1217"/>
                    </a:lnTo>
                    <a:lnTo>
                      <a:pt x="950" y="1179"/>
                    </a:lnTo>
                    <a:lnTo>
                      <a:pt x="934" y="1149"/>
                    </a:lnTo>
                    <a:lnTo>
                      <a:pt x="917" y="1125"/>
                    </a:lnTo>
                    <a:lnTo>
                      <a:pt x="900" y="1101"/>
                    </a:lnTo>
                    <a:lnTo>
                      <a:pt x="881" y="1076"/>
                    </a:lnTo>
                    <a:lnTo>
                      <a:pt x="859" y="1051"/>
                    </a:lnTo>
                    <a:lnTo>
                      <a:pt x="841" y="1033"/>
                    </a:lnTo>
                    <a:lnTo>
                      <a:pt x="821" y="1011"/>
                    </a:lnTo>
                    <a:lnTo>
                      <a:pt x="801" y="992"/>
                    </a:lnTo>
                    <a:lnTo>
                      <a:pt x="777" y="973"/>
                    </a:lnTo>
                    <a:lnTo>
                      <a:pt x="748" y="953"/>
                    </a:lnTo>
                    <a:lnTo>
                      <a:pt x="724" y="935"/>
                    </a:lnTo>
                    <a:lnTo>
                      <a:pt x="704" y="924"/>
                    </a:lnTo>
                    <a:lnTo>
                      <a:pt x="674" y="905"/>
                    </a:lnTo>
                    <a:lnTo>
                      <a:pt x="648" y="895"/>
                    </a:lnTo>
                    <a:lnTo>
                      <a:pt x="625" y="886"/>
                    </a:lnTo>
                    <a:lnTo>
                      <a:pt x="601" y="877"/>
                    </a:lnTo>
                    <a:lnTo>
                      <a:pt x="565" y="868"/>
                    </a:lnTo>
                    <a:lnTo>
                      <a:pt x="531" y="861"/>
                    </a:lnTo>
                    <a:lnTo>
                      <a:pt x="497" y="857"/>
                    </a:lnTo>
                    <a:lnTo>
                      <a:pt x="462" y="855"/>
                    </a:lnTo>
                    <a:lnTo>
                      <a:pt x="443" y="854"/>
                    </a:lnTo>
                    <a:lnTo>
                      <a:pt x="443" y="1162"/>
                    </a:lnTo>
                    <a:lnTo>
                      <a:pt x="0" y="590"/>
                    </a:lnTo>
                    <a:lnTo>
                      <a:pt x="442" y="0"/>
                    </a:lnTo>
                    <a:lnTo>
                      <a:pt x="442" y="266"/>
                    </a:lnTo>
                    <a:lnTo>
                      <a:pt x="466" y="267"/>
                    </a:lnTo>
                    <a:lnTo>
                      <a:pt x="500" y="268"/>
                    </a:lnTo>
                    <a:lnTo>
                      <a:pt x="536" y="271"/>
                    </a:lnTo>
                    <a:lnTo>
                      <a:pt x="571" y="275"/>
                    </a:lnTo>
                    <a:lnTo>
                      <a:pt x="600" y="2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8" name="Freeform 15"/>
              <p:cNvSpPr/>
              <p:nvPr/>
            </p:nvSpPr>
            <p:spPr>
              <a:xfrm>
                <a:off x="3161880" y="4375800"/>
                <a:ext cx="3311640" cy="1864440"/>
              </a:xfrm>
              <a:custGeom>
                <a:avLst/>
                <a:gdLst>
                  <a:gd name="textAreaLeft" fmla="*/ 0 w 3311640"/>
                  <a:gd name="textAreaRight" fmla="*/ 3312000 w 3311640"/>
                  <a:gd name="textAreaTop" fmla="*/ 0 h 1864440"/>
                  <a:gd name="textAreaBottom" fmla="*/ 1864800 h 1864440"/>
                </a:gdLst>
                <a:ahLst/>
                <a:rect l="textAreaLeft" t="textAreaTop" r="textAreaRight" b="textAreaBottom"/>
                <a:pathLst>
                  <a:path w="2088" h="1176">
                    <a:moveTo>
                      <a:pt x="1049" y="1162"/>
                    </a:moveTo>
                    <a:lnTo>
                      <a:pt x="1071" y="1158"/>
                    </a:lnTo>
                    <a:lnTo>
                      <a:pt x="1100" y="1153"/>
                    </a:lnTo>
                    <a:lnTo>
                      <a:pt x="1128" y="1146"/>
                    </a:lnTo>
                    <a:lnTo>
                      <a:pt x="1149" y="1141"/>
                    </a:lnTo>
                    <a:lnTo>
                      <a:pt x="1173" y="1135"/>
                    </a:lnTo>
                    <a:lnTo>
                      <a:pt x="1197" y="1127"/>
                    </a:lnTo>
                    <a:lnTo>
                      <a:pt x="1221" y="1121"/>
                    </a:lnTo>
                    <a:lnTo>
                      <a:pt x="1242" y="1113"/>
                    </a:lnTo>
                    <a:lnTo>
                      <a:pt x="1266" y="1103"/>
                    </a:lnTo>
                    <a:lnTo>
                      <a:pt x="1296" y="1091"/>
                    </a:lnTo>
                    <a:lnTo>
                      <a:pt x="1321" y="1080"/>
                    </a:lnTo>
                    <a:lnTo>
                      <a:pt x="1345" y="1068"/>
                    </a:lnTo>
                    <a:lnTo>
                      <a:pt x="1373" y="1055"/>
                    </a:lnTo>
                    <a:lnTo>
                      <a:pt x="1399" y="1041"/>
                    </a:lnTo>
                    <a:lnTo>
                      <a:pt x="1423" y="1029"/>
                    </a:lnTo>
                    <a:lnTo>
                      <a:pt x="1444" y="1013"/>
                    </a:lnTo>
                    <a:lnTo>
                      <a:pt x="1465" y="1000"/>
                    </a:lnTo>
                    <a:lnTo>
                      <a:pt x="1485" y="985"/>
                    </a:lnTo>
                    <a:lnTo>
                      <a:pt x="1508" y="971"/>
                    </a:lnTo>
                    <a:lnTo>
                      <a:pt x="1533" y="953"/>
                    </a:lnTo>
                    <a:lnTo>
                      <a:pt x="1556" y="935"/>
                    </a:lnTo>
                    <a:lnTo>
                      <a:pt x="1577" y="917"/>
                    </a:lnTo>
                    <a:lnTo>
                      <a:pt x="1596" y="902"/>
                    </a:lnTo>
                    <a:lnTo>
                      <a:pt x="1630" y="874"/>
                    </a:lnTo>
                    <a:lnTo>
                      <a:pt x="1660" y="845"/>
                    </a:lnTo>
                    <a:lnTo>
                      <a:pt x="1690" y="813"/>
                    </a:lnTo>
                    <a:lnTo>
                      <a:pt x="1721" y="776"/>
                    </a:lnTo>
                    <a:lnTo>
                      <a:pt x="1742" y="749"/>
                    </a:lnTo>
                    <a:lnTo>
                      <a:pt x="1766" y="719"/>
                    </a:lnTo>
                    <a:lnTo>
                      <a:pt x="1793" y="685"/>
                    </a:lnTo>
                    <a:lnTo>
                      <a:pt x="1815" y="652"/>
                    </a:lnTo>
                    <a:lnTo>
                      <a:pt x="1837" y="616"/>
                    </a:lnTo>
                    <a:lnTo>
                      <a:pt x="1863" y="575"/>
                    </a:lnTo>
                    <a:lnTo>
                      <a:pt x="2088" y="716"/>
                    </a:lnTo>
                    <a:lnTo>
                      <a:pt x="1868" y="0"/>
                    </a:lnTo>
                    <a:lnTo>
                      <a:pt x="1154" y="136"/>
                    </a:lnTo>
                    <a:lnTo>
                      <a:pt x="1394" y="282"/>
                    </a:lnTo>
                    <a:lnTo>
                      <a:pt x="1374" y="313"/>
                    </a:lnTo>
                    <a:lnTo>
                      <a:pt x="1352" y="339"/>
                    </a:lnTo>
                    <a:lnTo>
                      <a:pt x="1331" y="366"/>
                    </a:lnTo>
                    <a:lnTo>
                      <a:pt x="1309" y="392"/>
                    </a:lnTo>
                    <a:lnTo>
                      <a:pt x="1291" y="411"/>
                    </a:lnTo>
                    <a:lnTo>
                      <a:pt x="1272" y="433"/>
                    </a:lnTo>
                    <a:lnTo>
                      <a:pt x="1251" y="451"/>
                    </a:lnTo>
                    <a:lnTo>
                      <a:pt x="1227" y="470"/>
                    </a:lnTo>
                    <a:lnTo>
                      <a:pt x="1198" y="491"/>
                    </a:lnTo>
                    <a:lnTo>
                      <a:pt x="1174" y="507"/>
                    </a:lnTo>
                    <a:lnTo>
                      <a:pt x="1154" y="520"/>
                    </a:lnTo>
                    <a:lnTo>
                      <a:pt x="1124" y="538"/>
                    </a:lnTo>
                    <a:lnTo>
                      <a:pt x="1097" y="550"/>
                    </a:lnTo>
                    <a:lnTo>
                      <a:pt x="1075" y="557"/>
                    </a:lnTo>
                    <a:lnTo>
                      <a:pt x="1051" y="566"/>
                    </a:lnTo>
                    <a:lnTo>
                      <a:pt x="1016" y="576"/>
                    </a:lnTo>
                    <a:lnTo>
                      <a:pt x="981" y="582"/>
                    </a:lnTo>
                    <a:lnTo>
                      <a:pt x="947" y="585"/>
                    </a:lnTo>
                    <a:lnTo>
                      <a:pt x="895" y="588"/>
                    </a:lnTo>
                    <a:lnTo>
                      <a:pt x="828" y="589"/>
                    </a:lnTo>
                    <a:lnTo>
                      <a:pt x="777" y="582"/>
                    </a:lnTo>
                    <a:lnTo>
                      <a:pt x="730" y="570"/>
                    </a:lnTo>
                    <a:lnTo>
                      <a:pt x="676" y="553"/>
                    </a:lnTo>
                    <a:lnTo>
                      <a:pt x="628" y="532"/>
                    </a:lnTo>
                    <a:lnTo>
                      <a:pt x="580" y="506"/>
                    </a:lnTo>
                    <a:lnTo>
                      <a:pt x="537" y="477"/>
                    </a:lnTo>
                    <a:lnTo>
                      <a:pt x="495" y="437"/>
                    </a:lnTo>
                    <a:lnTo>
                      <a:pt x="0" y="743"/>
                    </a:lnTo>
                    <a:lnTo>
                      <a:pt x="20" y="769"/>
                    </a:lnTo>
                    <a:lnTo>
                      <a:pt x="49" y="798"/>
                    </a:lnTo>
                    <a:lnTo>
                      <a:pt x="73" y="824"/>
                    </a:lnTo>
                    <a:lnTo>
                      <a:pt x="97" y="848"/>
                    </a:lnTo>
                    <a:lnTo>
                      <a:pt x="121" y="872"/>
                    </a:lnTo>
                    <a:lnTo>
                      <a:pt x="150" y="898"/>
                    </a:lnTo>
                    <a:lnTo>
                      <a:pt x="176" y="920"/>
                    </a:lnTo>
                    <a:lnTo>
                      <a:pt x="202" y="940"/>
                    </a:lnTo>
                    <a:lnTo>
                      <a:pt x="232" y="961"/>
                    </a:lnTo>
                    <a:lnTo>
                      <a:pt x="261" y="982"/>
                    </a:lnTo>
                    <a:lnTo>
                      <a:pt x="291" y="1003"/>
                    </a:lnTo>
                    <a:lnTo>
                      <a:pt x="318" y="1020"/>
                    </a:lnTo>
                    <a:lnTo>
                      <a:pt x="346" y="1036"/>
                    </a:lnTo>
                    <a:lnTo>
                      <a:pt x="372" y="1050"/>
                    </a:lnTo>
                    <a:lnTo>
                      <a:pt x="408" y="1068"/>
                    </a:lnTo>
                    <a:lnTo>
                      <a:pt x="442" y="1084"/>
                    </a:lnTo>
                    <a:lnTo>
                      <a:pt x="480" y="1099"/>
                    </a:lnTo>
                    <a:lnTo>
                      <a:pt x="509" y="1111"/>
                    </a:lnTo>
                    <a:lnTo>
                      <a:pt x="536" y="1122"/>
                    </a:lnTo>
                    <a:lnTo>
                      <a:pt x="568" y="1132"/>
                    </a:lnTo>
                    <a:lnTo>
                      <a:pt x="600" y="1141"/>
                    </a:lnTo>
                    <a:lnTo>
                      <a:pt x="631" y="1149"/>
                    </a:lnTo>
                    <a:lnTo>
                      <a:pt x="667" y="1157"/>
                    </a:lnTo>
                    <a:lnTo>
                      <a:pt x="702" y="1163"/>
                    </a:lnTo>
                    <a:lnTo>
                      <a:pt x="740" y="1168"/>
                    </a:lnTo>
                    <a:lnTo>
                      <a:pt x="778" y="1172"/>
                    </a:lnTo>
                    <a:lnTo>
                      <a:pt x="807" y="1173"/>
                    </a:lnTo>
                    <a:lnTo>
                      <a:pt x="846" y="1176"/>
                    </a:lnTo>
                    <a:lnTo>
                      <a:pt x="886" y="1176"/>
                    </a:lnTo>
                    <a:lnTo>
                      <a:pt x="917" y="1175"/>
                    </a:lnTo>
                    <a:lnTo>
                      <a:pt x="950" y="1173"/>
                    </a:lnTo>
                    <a:lnTo>
                      <a:pt x="987" y="1171"/>
                    </a:lnTo>
                    <a:lnTo>
                      <a:pt x="1021" y="1166"/>
                    </a:lnTo>
                    <a:lnTo>
                      <a:pt x="1049" y="1162"/>
                    </a:lnTo>
                    <a:close/>
                  </a:path>
                </a:pathLst>
              </a:custGeom>
              <a:solidFill>
                <a:srgbClr val="9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9" name="Freeform 16"/>
              <p:cNvSpPr/>
              <p:nvPr/>
            </p:nvSpPr>
            <p:spPr>
              <a:xfrm>
                <a:off x="2590920" y="2356920"/>
                <a:ext cx="1679760" cy="3324960"/>
              </a:xfrm>
              <a:custGeom>
                <a:avLst/>
                <a:gdLst>
                  <a:gd name="textAreaLeft" fmla="*/ 0 w 1679760"/>
                  <a:gd name="textAreaRight" fmla="*/ 1680120 w 1679760"/>
                  <a:gd name="textAreaTop" fmla="*/ 0 h 3324960"/>
                  <a:gd name="textAreaBottom" fmla="*/ 3325320 h 3324960"/>
                </a:gdLst>
                <a:ahLst/>
                <a:rect l="textAreaLeft" t="textAreaTop" r="textAreaRight" b="textAreaBottom"/>
                <a:pathLst>
                  <a:path w="1059" h="2097">
                    <a:moveTo>
                      <a:pt x="1059" y="0"/>
                    </a:moveTo>
                    <a:lnTo>
                      <a:pt x="1036" y="4"/>
                    </a:lnTo>
                    <a:lnTo>
                      <a:pt x="1013" y="7"/>
                    </a:lnTo>
                    <a:lnTo>
                      <a:pt x="982" y="15"/>
                    </a:lnTo>
                    <a:lnTo>
                      <a:pt x="960" y="20"/>
                    </a:lnTo>
                    <a:lnTo>
                      <a:pt x="936" y="28"/>
                    </a:lnTo>
                    <a:lnTo>
                      <a:pt x="913" y="36"/>
                    </a:lnTo>
                    <a:lnTo>
                      <a:pt x="889" y="42"/>
                    </a:lnTo>
                    <a:lnTo>
                      <a:pt x="866" y="50"/>
                    </a:lnTo>
                    <a:lnTo>
                      <a:pt x="842" y="60"/>
                    </a:lnTo>
                    <a:lnTo>
                      <a:pt x="814" y="72"/>
                    </a:lnTo>
                    <a:lnTo>
                      <a:pt x="790" y="83"/>
                    </a:lnTo>
                    <a:lnTo>
                      <a:pt x="764" y="95"/>
                    </a:lnTo>
                    <a:lnTo>
                      <a:pt x="738" y="107"/>
                    </a:lnTo>
                    <a:lnTo>
                      <a:pt x="712" y="121"/>
                    </a:lnTo>
                    <a:lnTo>
                      <a:pt x="688" y="134"/>
                    </a:lnTo>
                    <a:lnTo>
                      <a:pt x="665" y="150"/>
                    </a:lnTo>
                    <a:lnTo>
                      <a:pt x="645" y="162"/>
                    </a:lnTo>
                    <a:lnTo>
                      <a:pt x="624" y="178"/>
                    </a:lnTo>
                    <a:lnTo>
                      <a:pt x="602" y="192"/>
                    </a:lnTo>
                    <a:lnTo>
                      <a:pt x="577" y="210"/>
                    </a:lnTo>
                    <a:lnTo>
                      <a:pt x="554" y="229"/>
                    </a:lnTo>
                    <a:lnTo>
                      <a:pt x="532" y="247"/>
                    </a:lnTo>
                    <a:lnTo>
                      <a:pt x="512" y="262"/>
                    </a:lnTo>
                    <a:lnTo>
                      <a:pt x="478" y="292"/>
                    </a:lnTo>
                    <a:lnTo>
                      <a:pt x="445" y="326"/>
                    </a:lnTo>
                    <a:lnTo>
                      <a:pt x="419" y="352"/>
                    </a:lnTo>
                    <a:lnTo>
                      <a:pt x="388" y="389"/>
                    </a:lnTo>
                    <a:lnTo>
                      <a:pt x="366" y="416"/>
                    </a:lnTo>
                    <a:lnTo>
                      <a:pt x="342" y="447"/>
                    </a:lnTo>
                    <a:lnTo>
                      <a:pt x="316" y="481"/>
                    </a:lnTo>
                    <a:lnTo>
                      <a:pt x="294" y="513"/>
                    </a:lnTo>
                    <a:lnTo>
                      <a:pt x="273" y="551"/>
                    </a:lnTo>
                    <a:lnTo>
                      <a:pt x="251" y="586"/>
                    </a:lnTo>
                    <a:lnTo>
                      <a:pt x="230" y="625"/>
                    </a:lnTo>
                    <a:lnTo>
                      <a:pt x="212" y="658"/>
                    </a:lnTo>
                    <a:lnTo>
                      <a:pt x="195" y="699"/>
                    </a:lnTo>
                    <a:lnTo>
                      <a:pt x="178" y="739"/>
                    </a:lnTo>
                    <a:lnTo>
                      <a:pt x="164" y="780"/>
                    </a:lnTo>
                    <a:lnTo>
                      <a:pt x="149" y="825"/>
                    </a:lnTo>
                    <a:lnTo>
                      <a:pt x="131" y="880"/>
                    </a:lnTo>
                    <a:lnTo>
                      <a:pt x="119" y="931"/>
                    </a:lnTo>
                    <a:lnTo>
                      <a:pt x="108" y="984"/>
                    </a:lnTo>
                    <a:lnTo>
                      <a:pt x="102" y="1035"/>
                    </a:lnTo>
                    <a:lnTo>
                      <a:pt x="93" y="1095"/>
                    </a:lnTo>
                    <a:lnTo>
                      <a:pt x="87" y="1169"/>
                    </a:lnTo>
                    <a:lnTo>
                      <a:pt x="86" y="1228"/>
                    </a:lnTo>
                    <a:lnTo>
                      <a:pt x="87" y="1286"/>
                    </a:lnTo>
                    <a:lnTo>
                      <a:pt x="92" y="1341"/>
                    </a:lnTo>
                    <a:lnTo>
                      <a:pt x="98" y="1392"/>
                    </a:lnTo>
                    <a:lnTo>
                      <a:pt x="104" y="1446"/>
                    </a:lnTo>
                    <a:lnTo>
                      <a:pt x="115" y="1501"/>
                    </a:lnTo>
                    <a:lnTo>
                      <a:pt x="129" y="1560"/>
                    </a:lnTo>
                    <a:lnTo>
                      <a:pt x="147" y="1620"/>
                    </a:lnTo>
                    <a:lnTo>
                      <a:pt x="165" y="1676"/>
                    </a:lnTo>
                    <a:lnTo>
                      <a:pt x="185" y="1732"/>
                    </a:lnTo>
                    <a:lnTo>
                      <a:pt x="209" y="1785"/>
                    </a:lnTo>
                    <a:lnTo>
                      <a:pt x="238" y="1837"/>
                    </a:lnTo>
                    <a:lnTo>
                      <a:pt x="0" y="1981"/>
                    </a:lnTo>
                    <a:lnTo>
                      <a:pt x="726" y="2097"/>
                    </a:lnTo>
                    <a:lnTo>
                      <a:pt x="993" y="1382"/>
                    </a:lnTo>
                    <a:lnTo>
                      <a:pt x="714" y="1542"/>
                    </a:lnTo>
                    <a:lnTo>
                      <a:pt x="687" y="1496"/>
                    </a:lnTo>
                    <a:lnTo>
                      <a:pt x="670" y="1455"/>
                    </a:lnTo>
                    <a:lnTo>
                      <a:pt x="654" y="1413"/>
                    </a:lnTo>
                    <a:lnTo>
                      <a:pt x="644" y="1370"/>
                    </a:lnTo>
                    <a:lnTo>
                      <a:pt x="636" y="1329"/>
                    </a:lnTo>
                    <a:lnTo>
                      <a:pt x="634" y="1290"/>
                    </a:lnTo>
                    <a:lnTo>
                      <a:pt x="630" y="1250"/>
                    </a:lnTo>
                    <a:lnTo>
                      <a:pt x="630" y="1210"/>
                    </a:lnTo>
                    <a:lnTo>
                      <a:pt x="633" y="1163"/>
                    </a:lnTo>
                    <a:lnTo>
                      <a:pt x="638" y="1117"/>
                    </a:lnTo>
                    <a:lnTo>
                      <a:pt x="647" y="1066"/>
                    </a:lnTo>
                    <a:lnTo>
                      <a:pt x="658" y="1025"/>
                    </a:lnTo>
                    <a:lnTo>
                      <a:pt x="675" y="978"/>
                    </a:lnTo>
                    <a:lnTo>
                      <a:pt x="689" y="939"/>
                    </a:lnTo>
                    <a:lnTo>
                      <a:pt x="709" y="900"/>
                    </a:lnTo>
                    <a:lnTo>
                      <a:pt x="726" y="871"/>
                    </a:lnTo>
                    <a:lnTo>
                      <a:pt x="743" y="846"/>
                    </a:lnTo>
                    <a:lnTo>
                      <a:pt x="760" y="822"/>
                    </a:lnTo>
                    <a:lnTo>
                      <a:pt x="779" y="798"/>
                    </a:lnTo>
                    <a:lnTo>
                      <a:pt x="799" y="772"/>
                    </a:lnTo>
                    <a:lnTo>
                      <a:pt x="817" y="754"/>
                    </a:lnTo>
                    <a:lnTo>
                      <a:pt x="837" y="731"/>
                    </a:lnTo>
                    <a:lnTo>
                      <a:pt x="858" y="713"/>
                    </a:lnTo>
                    <a:lnTo>
                      <a:pt x="882" y="694"/>
                    </a:lnTo>
                    <a:lnTo>
                      <a:pt x="910" y="674"/>
                    </a:lnTo>
                    <a:lnTo>
                      <a:pt x="934" y="657"/>
                    </a:lnTo>
                    <a:lnTo>
                      <a:pt x="955" y="644"/>
                    </a:lnTo>
                    <a:lnTo>
                      <a:pt x="985" y="626"/>
                    </a:lnTo>
                    <a:lnTo>
                      <a:pt x="1013" y="613"/>
                    </a:lnTo>
                    <a:lnTo>
                      <a:pt x="1059" y="599"/>
                    </a:lnTo>
                    <a:lnTo>
                      <a:pt x="1059" y="0"/>
                    </a:lnTo>
                    <a:close/>
                  </a:path>
                </a:pathLst>
              </a:custGeom>
              <a:solidFill>
                <a:srgbClr val="720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0" name="Freeform 17"/>
              <p:cNvSpPr/>
              <p:nvPr/>
            </p:nvSpPr>
            <p:spPr>
              <a:xfrm>
                <a:off x="3886560" y="1905120"/>
                <a:ext cx="2496600" cy="3011400"/>
              </a:xfrm>
              <a:custGeom>
                <a:avLst/>
                <a:gdLst>
                  <a:gd name="textAreaLeft" fmla="*/ 0 w 2496600"/>
                  <a:gd name="textAreaRight" fmla="*/ 2496960 w 2496600"/>
                  <a:gd name="textAreaTop" fmla="*/ 0 h 3011400"/>
                  <a:gd name="textAreaBottom" fmla="*/ 3011760 h 3011400"/>
                </a:gdLst>
                <a:ahLst/>
                <a:rect l="textAreaLeft" t="textAreaTop" r="textAreaRight" b="textAreaBottom"/>
                <a:pathLst>
                  <a:path w="1574" h="1899">
                    <a:moveTo>
                      <a:pt x="600" y="278"/>
                    </a:moveTo>
                    <a:lnTo>
                      <a:pt x="621" y="282"/>
                    </a:lnTo>
                    <a:lnTo>
                      <a:pt x="650" y="287"/>
                    </a:lnTo>
                    <a:lnTo>
                      <a:pt x="679" y="295"/>
                    </a:lnTo>
                    <a:lnTo>
                      <a:pt x="699" y="300"/>
                    </a:lnTo>
                    <a:lnTo>
                      <a:pt x="723" y="307"/>
                    </a:lnTo>
                    <a:lnTo>
                      <a:pt x="746" y="314"/>
                    </a:lnTo>
                    <a:lnTo>
                      <a:pt x="770" y="322"/>
                    </a:lnTo>
                    <a:lnTo>
                      <a:pt x="791" y="328"/>
                    </a:lnTo>
                    <a:lnTo>
                      <a:pt x="816" y="339"/>
                    </a:lnTo>
                    <a:lnTo>
                      <a:pt x="845" y="351"/>
                    </a:lnTo>
                    <a:lnTo>
                      <a:pt x="870" y="362"/>
                    </a:lnTo>
                    <a:lnTo>
                      <a:pt x="894" y="373"/>
                    </a:lnTo>
                    <a:lnTo>
                      <a:pt x="922" y="386"/>
                    </a:lnTo>
                    <a:lnTo>
                      <a:pt x="948" y="400"/>
                    </a:lnTo>
                    <a:lnTo>
                      <a:pt x="972" y="413"/>
                    </a:lnTo>
                    <a:lnTo>
                      <a:pt x="995" y="428"/>
                    </a:lnTo>
                    <a:lnTo>
                      <a:pt x="1015" y="441"/>
                    </a:lnTo>
                    <a:lnTo>
                      <a:pt x="1035" y="456"/>
                    </a:lnTo>
                    <a:lnTo>
                      <a:pt x="1058" y="471"/>
                    </a:lnTo>
                    <a:lnTo>
                      <a:pt x="1083" y="488"/>
                    </a:lnTo>
                    <a:lnTo>
                      <a:pt x="1106" y="506"/>
                    </a:lnTo>
                    <a:lnTo>
                      <a:pt x="1127" y="524"/>
                    </a:lnTo>
                    <a:lnTo>
                      <a:pt x="1148" y="541"/>
                    </a:lnTo>
                    <a:lnTo>
                      <a:pt x="1180" y="570"/>
                    </a:lnTo>
                    <a:lnTo>
                      <a:pt x="1214" y="604"/>
                    </a:lnTo>
                    <a:lnTo>
                      <a:pt x="1240" y="629"/>
                    </a:lnTo>
                    <a:lnTo>
                      <a:pt x="1271" y="667"/>
                    </a:lnTo>
                    <a:lnTo>
                      <a:pt x="1293" y="693"/>
                    </a:lnTo>
                    <a:lnTo>
                      <a:pt x="1316" y="724"/>
                    </a:lnTo>
                    <a:lnTo>
                      <a:pt x="1343" y="759"/>
                    </a:lnTo>
                    <a:lnTo>
                      <a:pt x="1364" y="792"/>
                    </a:lnTo>
                    <a:lnTo>
                      <a:pt x="1386" y="829"/>
                    </a:lnTo>
                    <a:lnTo>
                      <a:pt x="1409" y="865"/>
                    </a:lnTo>
                    <a:lnTo>
                      <a:pt x="1428" y="903"/>
                    </a:lnTo>
                    <a:lnTo>
                      <a:pt x="1447" y="937"/>
                    </a:lnTo>
                    <a:lnTo>
                      <a:pt x="1465" y="978"/>
                    </a:lnTo>
                    <a:lnTo>
                      <a:pt x="1482" y="1017"/>
                    </a:lnTo>
                    <a:lnTo>
                      <a:pt x="1496" y="1058"/>
                    </a:lnTo>
                    <a:lnTo>
                      <a:pt x="1510" y="1103"/>
                    </a:lnTo>
                    <a:lnTo>
                      <a:pt x="1528" y="1158"/>
                    </a:lnTo>
                    <a:lnTo>
                      <a:pt x="1540" y="1210"/>
                    </a:lnTo>
                    <a:lnTo>
                      <a:pt x="1552" y="1262"/>
                    </a:lnTo>
                    <a:lnTo>
                      <a:pt x="1558" y="1313"/>
                    </a:lnTo>
                    <a:lnTo>
                      <a:pt x="1567" y="1374"/>
                    </a:lnTo>
                    <a:lnTo>
                      <a:pt x="1573" y="1448"/>
                    </a:lnTo>
                    <a:lnTo>
                      <a:pt x="1574" y="1505"/>
                    </a:lnTo>
                    <a:lnTo>
                      <a:pt x="1573" y="1563"/>
                    </a:lnTo>
                    <a:lnTo>
                      <a:pt x="1568" y="1618"/>
                    </a:lnTo>
                    <a:lnTo>
                      <a:pt x="1562" y="1669"/>
                    </a:lnTo>
                    <a:lnTo>
                      <a:pt x="1556" y="1723"/>
                    </a:lnTo>
                    <a:lnTo>
                      <a:pt x="1545" y="1778"/>
                    </a:lnTo>
                    <a:lnTo>
                      <a:pt x="1531" y="1837"/>
                    </a:lnTo>
                    <a:lnTo>
                      <a:pt x="1513" y="1899"/>
                    </a:lnTo>
                    <a:lnTo>
                      <a:pt x="1410" y="1555"/>
                    </a:lnTo>
                    <a:lnTo>
                      <a:pt x="1017" y="1627"/>
                    </a:lnTo>
                    <a:lnTo>
                      <a:pt x="1026" y="1567"/>
                    </a:lnTo>
                    <a:lnTo>
                      <a:pt x="1029" y="1529"/>
                    </a:lnTo>
                    <a:lnTo>
                      <a:pt x="1029" y="1488"/>
                    </a:lnTo>
                    <a:lnTo>
                      <a:pt x="1027" y="1440"/>
                    </a:lnTo>
                    <a:lnTo>
                      <a:pt x="1021" y="1395"/>
                    </a:lnTo>
                    <a:lnTo>
                      <a:pt x="1013" y="1344"/>
                    </a:lnTo>
                    <a:lnTo>
                      <a:pt x="1002" y="1303"/>
                    </a:lnTo>
                    <a:lnTo>
                      <a:pt x="985" y="1257"/>
                    </a:lnTo>
                    <a:lnTo>
                      <a:pt x="969" y="1217"/>
                    </a:lnTo>
                    <a:lnTo>
                      <a:pt x="950" y="1179"/>
                    </a:lnTo>
                    <a:lnTo>
                      <a:pt x="934" y="1149"/>
                    </a:lnTo>
                    <a:lnTo>
                      <a:pt x="917" y="1125"/>
                    </a:lnTo>
                    <a:lnTo>
                      <a:pt x="900" y="1101"/>
                    </a:lnTo>
                    <a:lnTo>
                      <a:pt x="881" y="1076"/>
                    </a:lnTo>
                    <a:lnTo>
                      <a:pt x="859" y="1051"/>
                    </a:lnTo>
                    <a:lnTo>
                      <a:pt x="841" y="1033"/>
                    </a:lnTo>
                    <a:lnTo>
                      <a:pt x="821" y="1011"/>
                    </a:lnTo>
                    <a:lnTo>
                      <a:pt x="801" y="992"/>
                    </a:lnTo>
                    <a:lnTo>
                      <a:pt x="777" y="973"/>
                    </a:lnTo>
                    <a:lnTo>
                      <a:pt x="748" y="953"/>
                    </a:lnTo>
                    <a:lnTo>
                      <a:pt x="724" y="935"/>
                    </a:lnTo>
                    <a:lnTo>
                      <a:pt x="704" y="924"/>
                    </a:lnTo>
                    <a:lnTo>
                      <a:pt x="674" y="905"/>
                    </a:lnTo>
                    <a:lnTo>
                      <a:pt x="648" y="895"/>
                    </a:lnTo>
                    <a:lnTo>
                      <a:pt x="625" y="886"/>
                    </a:lnTo>
                    <a:lnTo>
                      <a:pt x="601" y="877"/>
                    </a:lnTo>
                    <a:lnTo>
                      <a:pt x="565" y="868"/>
                    </a:lnTo>
                    <a:lnTo>
                      <a:pt x="531" y="861"/>
                    </a:lnTo>
                    <a:lnTo>
                      <a:pt x="497" y="857"/>
                    </a:lnTo>
                    <a:lnTo>
                      <a:pt x="462" y="855"/>
                    </a:lnTo>
                    <a:lnTo>
                      <a:pt x="443" y="854"/>
                    </a:lnTo>
                    <a:lnTo>
                      <a:pt x="443" y="1162"/>
                    </a:lnTo>
                    <a:lnTo>
                      <a:pt x="0" y="590"/>
                    </a:lnTo>
                    <a:lnTo>
                      <a:pt x="442" y="0"/>
                    </a:lnTo>
                    <a:lnTo>
                      <a:pt x="442" y="266"/>
                    </a:lnTo>
                    <a:lnTo>
                      <a:pt x="466" y="267"/>
                    </a:lnTo>
                    <a:lnTo>
                      <a:pt x="500" y="268"/>
                    </a:lnTo>
                    <a:lnTo>
                      <a:pt x="536" y="271"/>
                    </a:lnTo>
                    <a:lnTo>
                      <a:pt x="571" y="275"/>
                    </a:lnTo>
                    <a:lnTo>
                      <a:pt x="600" y="278"/>
                    </a:lnTo>
                    <a:close/>
                  </a:path>
                </a:pathLst>
              </a:custGeom>
              <a:solidFill>
                <a:srgbClr val="cc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51" name="Text Box 11"/>
            <p:cNvSpPr/>
            <p:nvPr/>
          </p:nvSpPr>
          <p:spPr>
            <a:xfrm>
              <a:off x="1828800" y="37879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table Prices</a:t>
              </a:r>
              <a:endParaRPr b="0" lang="en-US" sz="2400" spc="-1" strike="noStrike">
                <a:solidFill>
                  <a:srgbClr val="000000"/>
                </a:solidFill>
                <a:latin typeface="Times New Roman"/>
              </a:endParaRPr>
            </a:p>
          </p:txBody>
        </p:sp>
        <p:sp>
          <p:nvSpPr>
            <p:cNvPr id="152" name="Text Box 9"/>
            <p:cNvSpPr/>
            <p:nvPr/>
          </p:nvSpPr>
          <p:spPr>
            <a:xfrm>
              <a:off x="4191120" y="5376960"/>
              <a:ext cx="2798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ustainable Economic  Growth</a:t>
              </a:r>
              <a:endParaRPr b="0" lang="en-US" sz="2400" spc="-1" strike="noStrike">
                <a:solidFill>
                  <a:srgbClr val="000000"/>
                </a:solidFill>
                <a:latin typeface="Times New Roman"/>
              </a:endParaRPr>
            </a:p>
          </p:txBody>
        </p:sp>
        <p:sp>
          <p:nvSpPr>
            <p:cNvPr id="153" name="Text Box 10"/>
            <p:cNvSpPr/>
            <p:nvPr/>
          </p:nvSpPr>
          <p:spPr>
            <a:xfrm>
              <a:off x="5156280" y="2749680"/>
              <a:ext cx="20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Fu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Employmen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Key Tools of Monetary Policy</a:t>
            </a:r>
            <a:endParaRPr b="0" lang="en-US" sz="4400" spc="-1" strike="noStrike">
              <a:solidFill>
                <a:srgbClr val="420000"/>
              </a:solidFill>
              <a:latin typeface="Times New Roman"/>
            </a:endParaRPr>
          </a:p>
        </p:txBody>
      </p:sp>
      <p:sp>
        <p:nvSpPr>
          <p:cNvPr id="15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ount Rate</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est rate charged by the Federal Reserve to banks that borrow on a short-term (usually overnight) basis</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rve Requirement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mount of money banks must keep on reserve at the Fed </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Market Operation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ying and selling Treasury securities between the Fed and selected financial institutions in the open market </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important tool; directed by the FOM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Key Federal Reserve Interest Rates</a:t>
            </a:r>
            <a:endParaRPr b="0" lang="en-US" sz="4400" spc="-1" strike="noStrike">
              <a:solidFill>
                <a:srgbClr val="420000"/>
              </a:solidFill>
              <a:latin typeface="Times New Roman"/>
            </a:endParaRPr>
          </a:p>
        </p:txBody>
      </p:sp>
      <p:sp>
        <p:nvSpPr>
          <p:cNvPr id="157" name="PlaceHolder 2"/>
          <p:cNvSpPr>
            <a:spLocks noGrp="1"/>
          </p:cNvSpPr>
          <p:nvPr>
            <p:ph/>
          </p:nvPr>
        </p:nvSpPr>
        <p:spPr>
          <a:xfrm>
            <a:off x="457200" y="1828440"/>
            <a:ext cx="5105520" cy="472428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eral Funds Rate</a:t>
            </a:r>
            <a:endParaRPr b="0" lang="en-US" sz="24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rket-based interest rate which banks charge each other on overnight loans of their reserve balances held at the Fed. The Fed achieves this rate through Open Market Operations.</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rget rate</a:t>
            </a:r>
            <a:endParaRPr b="0" lang="en-US" sz="20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unt Rate</a:t>
            </a:r>
            <a:endParaRPr b="0" lang="en-US" sz="24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es to short-term loans made directly to commercial banks from the Federal Reserve System.</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set at 1 percentage point above the Federal Funds Rate.</a:t>
            </a:r>
            <a:endParaRPr b="0" lang="en-US" sz="2000" spc="-1" strike="noStrike">
              <a:solidFill>
                <a:srgbClr val="000000"/>
              </a:solidFill>
              <a:latin typeface="Times New Roman"/>
            </a:endParaRPr>
          </a:p>
        </p:txBody>
      </p:sp>
      <p:pic>
        <p:nvPicPr>
          <p:cNvPr id="158" name="Picture 4" descr="discwind"/>
          <p:cNvPicPr/>
          <p:nvPr/>
        </p:nvPicPr>
        <p:blipFill>
          <a:blip r:embed="rId1"/>
          <a:stretch/>
        </p:blipFill>
        <p:spPr>
          <a:xfrm>
            <a:off x="5562720" y="2590920"/>
            <a:ext cx="3124080" cy="300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Monetary Policy at the Grassroots</a:t>
            </a:r>
            <a:endParaRPr b="0" lang="en-US" sz="4400" spc="-1" strike="noStrike">
              <a:solidFill>
                <a:srgbClr val="420000"/>
              </a:solidFill>
              <a:latin typeface="Times New Roman"/>
            </a:endParaRPr>
          </a:p>
        </p:txBody>
      </p:sp>
      <p:sp>
        <p:nvSpPr>
          <p:cNvPr id="16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head office and branch of the Federal Reserve System has a local Board of Directors.</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9 individuals</a:t>
            </a:r>
            <a:endParaRPr b="0" lang="en-US" sz="24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rd members provide various perspectives and economic data from different regions and industri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rds of directors vote on the discount rate.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rds of directors influence policymaking at the national level through “real-world” inpu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Effects of Low Interest Rates</a:t>
            </a:r>
            <a:endParaRPr b="0" lang="en-US" sz="4400" spc="-1" strike="noStrike">
              <a:solidFill>
                <a:srgbClr val="420000"/>
              </a:solidFill>
              <a:latin typeface="Times New Roman"/>
            </a:endParaRPr>
          </a:p>
        </p:txBody>
      </p:sp>
      <p:sp>
        <p:nvSpPr>
          <p:cNvPr id="162" name="PlaceHolder 2"/>
          <p:cNvSpPr>
            <a:spLocks noGrp="1"/>
          </p:cNvSpPr>
          <p:nvPr>
            <p:ph/>
          </p:nvPr>
        </p:nvSpPr>
        <p:spPr>
          <a:xfrm>
            <a:off x="4343400" y="1905120"/>
            <a:ext cx="4495680" cy="4495680"/>
          </a:xfrm>
          <a:prstGeom prst="rect">
            <a:avLst/>
          </a:prstGeom>
          <a:noFill/>
          <a:ln w="0">
            <a:noFill/>
          </a:ln>
        </p:spPr>
        <p:txBody>
          <a:bodyPr anchor="t">
            <a:normAutofit fontScale="98000"/>
          </a:bodyPr>
          <a:p>
            <a:pPr marL="460080" indent="-46008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low interest rates stimulate the economy because there is more money available to lend.</a:t>
            </a:r>
            <a:endParaRPr b="0" lang="en-US" sz="2400" spc="-1" strike="noStrike">
              <a:solidFill>
                <a:srgbClr val="000000"/>
              </a:solidFill>
              <a:latin typeface="Times New Roman"/>
            </a:endParaRPr>
          </a:p>
          <a:p>
            <a:pPr lvl="1" marL="889560" indent="-427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ers buy cars and houses.</a:t>
            </a:r>
            <a:endParaRPr b="0" lang="en-US" sz="2000" spc="-1" strike="noStrike">
              <a:solidFill>
                <a:srgbClr val="000000"/>
              </a:solidFill>
              <a:latin typeface="Times New Roman"/>
            </a:endParaRPr>
          </a:p>
          <a:p>
            <a:pPr lvl="1" marL="889560" indent="-427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es expand, buy equipment, etc.</a:t>
            </a:r>
            <a:endParaRPr b="0" lang="en-US" sz="2000" spc="-1" strike="noStrike">
              <a:solidFill>
                <a:srgbClr val="000000"/>
              </a:solidFill>
              <a:latin typeface="Times New Roman"/>
            </a:endParaRPr>
          </a:p>
          <a:p>
            <a:pPr lvl="1" marL="889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0080" indent="-46008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es the Fed lower interest rates?</a:t>
            </a:r>
            <a:endParaRPr b="0" lang="en-US" sz="2400" spc="-1" strike="noStrike">
              <a:solidFill>
                <a:srgbClr val="000000"/>
              </a:solidFill>
              <a:latin typeface="Times New Roman"/>
            </a:endParaRPr>
          </a:p>
          <a:p>
            <a:pPr lvl="1" marL="889560" indent="-427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nflation is in check, lower rates stimulate economic activity, thus boosting economic growth.</a:t>
            </a:r>
            <a:endParaRPr b="0" lang="en-US" sz="2000" spc="-1" strike="noStrike">
              <a:solidFill>
                <a:srgbClr val="000000"/>
              </a:solidFill>
              <a:latin typeface="Times New Roman"/>
            </a:endParaRPr>
          </a:p>
        </p:txBody>
      </p:sp>
      <p:pic>
        <p:nvPicPr>
          <p:cNvPr id="163" name="Picture 8" descr="MCj03983630000[1]"/>
          <p:cNvPicPr/>
          <p:nvPr/>
        </p:nvPicPr>
        <p:blipFill>
          <a:blip r:embed="rId1"/>
          <a:stretch/>
        </p:blipFill>
        <p:spPr>
          <a:xfrm>
            <a:off x="685800" y="2057400"/>
            <a:ext cx="3537000" cy="403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Effects of High Interest Rates</a:t>
            </a:r>
            <a:endParaRPr b="0" lang="en-US" sz="4400" spc="-1" strike="noStrike">
              <a:solidFill>
                <a:srgbClr val="420000"/>
              </a:solidFill>
              <a:latin typeface="Times New Roman"/>
            </a:endParaRPr>
          </a:p>
        </p:txBody>
      </p:sp>
      <p:sp>
        <p:nvSpPr>
          <p:cNvPr id="165" name="PlaceHolder 2"/>
          <p:cNvSpPr>
            <a:spLocks noGrp="1"/>
          </p:cNvSpPr>
          <p:nvPr>
            <p:ph/>
          </p:nvPr>
        </p:nvSpPr>
        <p:spPr>
          <a:xfrm>
            <a:off x="457200" y="1828440"/>
            <a:ext cx="4038480" cy="4800600"/>
          </a:xfrm>
          <a:prstGeom prst="rect">
            <a:avLst/>
          </a:prstGeom>
          <a:noFill/>
          <a:ln w="0">
            <a:noFill/>
          </a:ln>
        </p:spPr>
        <p:txBody>
          <a:bodyPr anchor="t">
            <a:normAutofit fontScale="99000"/>
          </a:bodyPr>
          <a:p>
            <a:pPr marL="464760" indent="-4647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ed raises interest rates as an effective way to fight inflation.</a:t>
            </a:r>
            <a:endParaRPr b="0" lang="en-US" sz="2400" spc="-1" strike="noStrike">
              <a:solidFill>
                <a:srgbClr val="000000"/>
              </a:solidFill>
              <a:latin typeface="Times New Roman"/>
            </a:endParaRPr>
          </a:p>
          <a:p>
            <a:pPr lvl="1" marL="898560" indent="-43164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lation</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a sustained rise in the general price level; that is, </a:t>
            </a:r>
            <a:r>
              <a:rPr b="0" lang="en-US" sz="2000" spc="-1" strike="noStrike" u="sng">
                <a:solidFill>
                  <a:srgbClr val="000000"/>
                </a:solidFill>
                <a:uFillTx/>
                <a:latin typeface="Times New Roman"/>
              </a:rPr>
              <a:t>all</a:t>
            </a:r>
            <a:r>
              <a:rPr b="0" lang="en-US" sz="2000" spc="-1" strike="noStrike">
                <a:solidFill>
                  <a:srgbClr val="000000"/>
                </a:solidFill>
                <a:latin typeface="Times New Roman"/>
              </a:rPr>
              <a:t> prices are rising together.</a:t>
            </a:r>
            <a:endParaRPr b="0" lang="en-US" sz="2000" spc="-1" strike="noStrike">
              <a:solidFill>
                <a:srgbClr val="000000"/>
              </a:solidFill>
              <a:latin typeface="Times New Roman"/>
            </a:endParaRPr>
          </a:p>
          <a:p>
            <a:pPr marL="464760" indent="-4647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ers pay more to borrow money, dampening spending.</a:t>
            </a:r>
            <a:endParaRPr b="0" lang="en-US" sz="2400" spc="-1" strike="noStrike">
              <a:solidFill>
                <a:srgbClr val="000000"/>
              </a:solidFill>
              <a:latin typeface="Times New Roman"/>
            </a:endParaRPr>
          </a:p>
          <a:p>
            <a:pPr marL="464760" indent="-4647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es have difficulty borrowing; unemployment rises.</a:t>
            </a:r>
            <a:endParaRPr b="0" lang="en-US" sz="2400" spc="-1" strike="noStrike">
              <a:solidFill>
                <a:srgbClr val="000000"/>
              </a:solidFill>
              <a:latin typeface="Times New Roman"/>
            </a:endParaRPr>
          </a:p>
        </p:txBody>
      </p:sp>
      <p:pic>
        <p:nvPicPr>
          <p:cNvPr id="166" name="Picture 4" descr="MCj03795510000[1]"/>
          <p:cNvPicPr/>
          <p:nvPr/>
        </p:nvPicPr>
        <p:blipFill>
          <a:blip r:embed="rId1"/>
          <a:stretch/>
        </p:blipFill>
        <p:spPr>
          <a:xfrm>
            <a:off x="4952880" y="1981080"/>
            <a:ext cx="3845160" cy="419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4" descr="pln english"/>
          <p:cNvPicPr/>
          <p:nvPr/>
        </p:nvPicPr>
        <p:blipFill>
          <a:blip r:embed="rId1"/>
          <a:stretch/>
        </p:blipFill>
        <p:spPr>
          <a:xfrm>
            <a:off x="380880" y="1981080"/>
            <a:ext cx="4572000" cy="3810240"/>
          </a:xfrm>
          <a:prstGeom prst="rect">
            <a:avLst/>
          </a:prstGeom>
          <a:ln w="0">
            <a:noFill/>
          </a:ln>
        </p:spPr>
      </p:pic>
      <p:sp>
        <p:nvSpPr>
          <p:cNvPr id="106" name="Text Box 46"/>
          <p:cNvSpPr/>
          <p:nvPr/>
        </p:nvSpPr>
        <p:spPr>
          <a:xfrm>
            <a:off x="304920" y="685800"/>
            <a:ext cx="8686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Rectangle 47"/>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What is the Fed?</a:t>
            </a:r>
            <a:endParaRPr b="0" lang="en-US" sz="4400" spc="-1" strike="noStrike">
              <a:solidFill>
                <a:srgbClr val="000000"/>
              </a:solidFill>
              <a:latin typeface="Times New Roman"/>
            </a:endParaRPr>
          </a:p>
        </p:txBody>
      </p:sp>
      <p:sp>
        <p:nvSpPr>
          <p:cNvPr id="108" name="PlaceHolder 1"/>
          <p:cNvSpPr>
            <a:spLocks noGrp="1"/>
          </p:cNvSpPr>
          <p:nvPr>
            <p:ph/>
          </p:nvPr>
        </p:nvSpPr>
        <p:spPr>
          <a:xfrm>
            <a:off x="5181480" y="2057400"/>
            <a:ext cx="3657600" cy="365760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bank of the United States</a:t>
            </a:r>
            <a:endParaRPr b="0" lang="en-US" sz="2800" spc="-1" strike="noStrike">
              <a:solidFill>
                <a:srgbClr val="000000"/>
              </a:solidFill>
              <a:latin typeface="Times New Roman"/>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ed in 1913</a:t>
            </a:r>
            <a:endParaRPr b="0" lang="en-US" sz="2800" spc="-1" strike="noStrike">
              <a:solidFill>
                <a:srgbClr val="000000"/>
              </a:solidFill>
              <a:latin typeface="Times New Roman"/>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s to ensure a stable economy for the nation</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eview</a:t>
            </a:r>
            <a:endParaRPr b="0" lang="en-US" sz="4400" spc="-1" strike="noStrike">
              <a:solidFill>
                <a:srgbClr val="420000"/>
              </a:solidFill>
              <a:latin typeface="Times New Roman"/>
            </a:endParaRPr>
          </a:p>
        </p:txBody>
      </p:sp>
      <p:sp>
        <p:nvSpPr>
          <p:cNvPr id="168" name="PlaceHolder 2"/>
          <p:cNvSpPr>
            <a:spLocks noGrp="1"/>
          </p:cNvSpPr>
          <p:nvPr>
            <p:ph/>
          </p:nvPr>
        </p:nvSpPr>
        <p:spPr>
          <a:xfrm>
            <a:off x="3047760" y="1828440"/>
            <a:ext cx="5638680" cy="4876920"/>
          </a:xfrm>
          <a:prstGeom prst="rect">
            <a:avLst/>
          </a:prstGeom>
          <a:noFill/>
          <a:ln w="0">
            <a:noFill/>
          </a:ln>
        </p:spPr>
        <p:txBody>
          <a:bodyPr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three main roles of the Federal Reserve System?</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is your Fed?</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goals of monetary policy?</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s when the Fed lowers interest rates? Raises interest rates?</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nflation? Why should it concern you?</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name of the Fed’s monetary policymaking body?</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iscount rate? Federal funds rate?</a:t>
            </a:r>
            <a:endParaRPr b="0" lang="en-US" sz="2400" spc="-1" strike="noStrike">
              <a:solidFill>
                <a:srgbClr val="000000"/>
              </a:solidFill>
              <a:latin typeface="Times New Roman"/>
            </a:endParaRPr>
          </a:p>
        </p:txBody>
      </p:sp>
      <p:pic>
        <p:nvPicPr>
          <p:cNvPr id="169" name="Picture 5" descr="guide_chair"/>
          <p:cNvPicPr/>
          <p:nvPr/>
        </p:nvPicPr>
        <p:blipFill>
          <a:blip r:embed="rId1"/>
          <a:stretch/>
        </p:blipFill>
        <p:spPr>
          <a:xfrm>
            <a:off x="533520" y="2057400"/>
            <a:ext cx="230652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What else????</a:t>
            </a:r>
            <a:endParaRPr b="0" lang="en-US" sz="4400" spc="-1" strike="noStrike">
              <a:solidFill>
                <a:srgbClr val="420000"/>
              </a:solidFill>
              <a:latin typeface="Times New Roman"/>
            </a:endParaRPr>
          </a:p>
        </p:txBody>
      </p:sp>
      <p:sp>
        <p:nvSpPr>
          <p:cNvPr id="171" name=""/>
          <p:cNvSpPr txBox="1"/>
          <p:nvPr/>
        </p:nvSpPr>
        <p:spPr>
          <a:xfrm>
            <a:off x="457200" y="1828800"/>
            <a:ext cx="403848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e Requirements and the money multiplier</a:t>
            </a:r>
            <a:endParaRPr b="0" lang="en-US" sz="3200" spc="-1" strike="noStrike">
              <a:solidFill>
                <a:srgbClr val="000000"/>
              </a:solidFill>
              <a:latin typeface="Times New Roman"/>
            </a:endParaRPr>
          </a:p>
        </p:txBody>
      </p:sp>
      <p:sp>
        <p:nvSpPr>
          <p:cNvPr id="172" name="PlaceHolder 2"/>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nds costs v. yield</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d face value is a Future Value</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cost- present- value</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ield is the interest</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ield and cost are inver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oles &amp; Responsibilities</a:t>
            </a:r>
            <a:endParaRPr b="0" lang="en-US" sz="4400" spc="-1" strike="noStrike">
              <a:solidFill>
                <a:srgbClr val="420000"/>
              </a:solidFill>
              <a:latin typeface="Times New Roman"/>
            </a:endParaRPr>
          </a:p>
        </p:txBody>
      </p:sp>
      <p:sp>
        <p:nvSpPr>
          <p:cNvPr id="110" name="PlaceHolder 2"/>
          <p:cNvSpPr>
            <a:spLocks noGrp="1"/>
          </p:cNvSpPr>
          <p:nvPr>
            <p:ph/>
          </p:nvPr>
        </p:nvSpPr>
        <p:spPr>
          <a:xfrm>
            <a:off x="457200" y="1828440"/>
            <a:ext cx="7772400" cy="2438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uct the nation’s monetary polic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ervise and regulate banking institution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e a nationwide payments system</a:t>
            </a:r>
            <a:endParaRPr b="0" lang="en-US" sz="2800" spc="-1" strike="noStrike">
              <a:solidFill>
                <a:srgbClr val="000000"/>
              </a:solidFill>
              <a:latin typeface="Times New Roman"/>
            </a:endParaRPr>
          </a:p>
        </p:txBody>
      </p:sp>
      <p:pic>
        <p:nvPicPr>
          <p:cNvPr id="111" name="Picture 4" descr="MCj02337780000[1]"/>
          <p:cNvPicPr/>
          <p:nvPr/>
        </p:nvPicPr>
        <p:blipFill>
          <a:blip r:embed="rId1"/>
          <a:stretch/>
        </p:blipFill>
        <p:spPr>
          <a:xfrm>
            <a:off x="2514600" y="3505320"/>
            <a:ext cx="3716280" cy="300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ederal Reserve System Structure</a:t>
            </a:r>
            <a:endParaRPr b="0" lang="en-US" sz="4400" spc="-1" strike="noStrike">
              <a:solidFill>
                <a:srgbClr val="420000"/>
              </a:solidFill>
              <a:latin typeface="Times New Roman"/>
            </a:endParaRPr>
          </a:p>
        </p:txBody>
      </p:sp>
      <p:pic>
        <p:nvPicPr>
          <p:cNvPr id="113" name="Picture 5" descr="eccles building 2"/>
          <p:cNvPicPr/>
          <p:nvPr/>
        </p:nvPicPr>
        <p:blipFill>
          <a:blip r:embed="rId1"/>
          <a:srcRect l="22161" t="6067" r="18181" b="33281"/>
          <a:stretch/>
        </p:blipFill>
        <p:spPr>
          <a:xfrm>
            <a:off x="5086440" y="1905120"/>
            <a:ext cx="2533680" cy="1600200"/>
          </a:xfrm>
          <a:prstGeom prst="rect">
            <a:avLst/>
          </a:prstGeom>
          <a:ln w="76320">
            <a:solidFill>
              <a:srgbClr val="ffffff"/>
            </a:solidFill>
            <a:miter/>
          </a:ln>
        </p:spPr>
      </p:pic>
      <p:pic>
        <p:nvPicPr>
          <p:cNvPr id="114" name="Picture 11" descr="Fed Res copy"/>
          <p:cNvPicPr/>
          <p:nvPr/>
        </p:nvPicPr>
        <p:blipFill>
          <a:blip r:embed="rId2"/>
          <a:srcRect l="16558" t="7159" r="25476" b="6871"/>
          <a:stretch/>
        </p:blipFill>
        <p:spPr>
          <a:xfrm>
            <a:off x="5105520" y="3581280"/>
            <a:ext cx="2514600" cy="1478160"/>
          </a:xfrm>
          <a:prstGeom prst="rect">
            <a:avLst/>
          </a:prstGeom>
          <a:ln w="76320">
            <a:solidFill>
              <a:srgbClr val="ffffff"/>
            </a:solidFill>
            <a:miter/>
          </a:ln>
        </p:spPr>
      </p:pic>
      <p:sp>
        <p:nvSpPr>
          <p:cNvPr id="115" name="PlaceHolder 2"/>
          <p:cNvSpPr>
            <a:spLocks noGrp="1"/>
          </p:cNvSpPr>
          <p:nvPr>
            <p:ph/>
          </p:nvPr>
        </p:nvSpPr>
        <p:spPr>
          <a:xfrm>
            <a:off x="685800" y="1828440"/>
            <a:ext cx="403848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rd of Governors</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Reserve Banks</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Open Market Committee</a:t>
            </a:r>
            <a:endParaRPr b="0" lang="en-US" sz="2800" spc="-1" strike="noStrike">
              <a:solidFill>
                <a:srgbClr val="000000"/>
              </a:solidFill>
              <a:latin typeface="Times New Roman"/>
            </a:endParaRPr>
          </a:p>
        </p:txBody>
      </p:sp>
      <p:pic>
        <p:nvPicPr>
          <p:cNvPr id="116" name="Picture 12" descr="board room 2"/>
          <p:cNvPicPr/>
          <p:nvPr/>
        </p:nvPicPr>
        <p:blipFill>
          <a:blip r:embed="rId3"/>
          <a:srcRect l="18391" t="24337" r="12387" b="4269"/>
          <a:stretch/>
        </p:blipFill>
        <p:spPr>
          <a:xfrm>
            <a:off x="5105520" y="5105520"/>
            <a:ext cx="2514600" cy="153972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500" fill="hold"/>
                                        <p:tgtEl>
                                          <p:spTgt spid="113"/>
                                        </p:tgtEl>
                                        <p:attrNameLst>
                                          <p:attrName>ppt_w</p:attrName>
                                        </p:attrNameLst>
                                      </p:cBhvr>
                                      <p:tavLst>
                                        <p:tav tm="0">
                                          <p:val>
                                            <p:fltVal val="0"/>
                                          </p:val>
                                        </p:tav>
                                        <p:tav tm="100000">
                                          <p:val>
                                            <p:strVal val="#ppt_w"/>
                                          </p:val>
                                        </p:tav>
                                      </p:tavLst>
                                    </p:anim>
                                    <p:anim calcmode="lin" valueType="num">
                                      <p:cBhvr additive="repl">
                                        <p:cTn id="8" dur="500" fill="hold"/>
                                        <p:tgtEl>
                                          <p:spTgt spid="113"/>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114"/>
                                        </p:tgtEl>
                                        <p:attrNameLst>
                                          <p:attrName>style.visibility</p:attrName>
                                        </p:attrNameLst>
                                      </p:cBhvr>
                                      <p:to>
                                        <p:strVal val="visible"/>
                                      </p:to>
                                    </p:set>
                                    <p:anim calcmode="lin" valueType="num">
                                      <p:cBhvr additive="repl">
                                        <p:cTn id="12" dur="500" fill="hold"/>
                                        <p:tgtEl>
                                          <p:spTgt spid="114"/>
                                        </p:tgtEl>
                                        <p:attrNameLst>
                                          <p:attrName>ppt_w</p:attrName>
                                        </p:attrNameLst>
                                      </p:cBhvr>
                                      <p:tavLst>
                                        <p:tav tm="0">
                                          <p:val>
                                            <p:fltVal val="0"/>
                                          </p:val>
                                        </p:tav>
                                        <p:tav tm="100000">
                                          <p:val>
                                            <p:strVal val="#ppt_w"/>
                                          </p:val>
                                        </p:tav>
                                      </p:tavLst>
                                    </p:anim>
                                    <p:anim calcmode="lin" valueType="num">
                                      <p:cBhvr additive="repl">
                                        <p:cTn id="13" dur="500" fill="hold"/>
                                        <p:tgtEl>
                                          <p:spTgt spid="114"/>
                                        </p:tgtEl>
                                        <p:attrNameLst>
                                          <p:attrName>ppt_h</p:attrName>
                                        </p:attrNameLst>
                                      </p:cBhvr>
                                      <p:tavLst>
                                        <p:tav tm="0">
                                          <p:val>
                                            <p:fltVal val="0"/>
                                          </p:val>
                                        </p:tav>
                                        <p:tav tm="100000">
                                          <p:val>
                                            <p:strVal val="#ppt_h"/>
                                          </p:val>
                                        </p:tav>
                                      </p:tavLst>
                                    </p:anim>
                                  </p:childTnLst>
                                </p:cTn>
                              </p:par>
                            </p:childTnLst>
                          </p:cTn>
                        </p:par>
                        <p:par>
                          <p:cTn id="14" nodeType="afterEffect"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116"/>
                                        </p:tgtEl>
                                        <p:attrNameLst>
                                          <p:attrName>style.visibility</p:attrName>
                                        </p:attrNameLst>
                                      </p:cBhvr>
                                      <p:to>
                                        <p:strVal val="visible"/>
                                      </p:to>
                                    </p:set>
                                    <p:anim calcmode="lin" valueType="num">
                                      <p:cBhvr additive="repl">
                                        <p:cTn id="17" dur="500" fill="hold"/>
                                        <p:tgtEl>
                                          <p:spTgt spid="116"/>
                                        </p:tgtEl>
                                        <p:attrNameLst>
                                          <p:attrName>ppt_w</p:attrName>
                                        </p:attrNameLst>
                                      </p:cBhvr>
                                      <p:tavLst>
                                        <p:tav tm="0">
                                          <p:val>
                                            <p:fltVal val="0"/>
                                          </p:val>
                                        </p:tav>
                                        <p:tav tm="100000">
                                          <p:val>
                                            <p:strVal val="#ppt_w"/>
                                          </p:val>
                                        </p:tav>
                                      </p:tavLst>
                                    </p:anim>
                                    <p:anim calcmode="lin" valueType="num">
                                      <p:cBhvr additive="repl">
                                        <p:cTn id="18"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Board of Governors</a:t>
            </a:r>
            <a:endParaRPr b="0" lang="en-US" sz="4400" spc="-1" strike="noStrike">
              <a:solidFill>
                <a:srgbClr val="420000"/>
              </a:solidFill>
              <a:latin typeface="Times New Roman"/>
            </a:endParaRPr>
          </a:p>
        </p:txBody>
      </p:sp>
      <p:sp>
        <p:nvSpPr>
          <p:cNvPr id="118" name="PlaceHolder 2"/>
          <p:cNvSpPr>
            <a:spLocks noGrp="1"/>
          </p:cNvSpPr>
          <p:nvPr>
            <p:ph/>
          </p:nvPr>
        </p:nvSpPr>
        <p:spPr>
          <a:xfrm>
            <a:off x="456840" y="1828800"/>
            <a:ext cx="43434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 members</a:t>
            </a:r>
            <a:endParaRPr b="0" lang="en-US" sz="28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ointed by the president</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rmed by the Senate</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 staggered 14-year terms</a:t>
            </a:r>
            <a:endParaRPr b="0" lang="en-US" sz="20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includes:</a:t>
            </a:r>
            <a:endParaRPr b="0" lang="en-US" sz="28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zing economic developments </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ervising and regulating the operations of Federal Reserve Banks</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rcising responsibility in the nation’s payments system</a:t>
            </a:r>
            <a:endParaRPr b="0" lang="en-US" sz="2000" spc="-1" strike="noStrike">
              <a:solidFill>
                <a:srgbClr val="000000"/>
              </a:solidFill>
              <a:latin typeface="Times New Roman"/>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9" name="Picture 4" descr="boardroom_wh"/>
          <p:cNvPicPr/>
          <p:nvPr/>
        </p:nvPicPr>
        <p:blipFill>
          <a:blip r:embed="rId1"/>
          <a:stretch/>
        </p:blipFill>
        <p:spPr>
          <a:xfrm>
            <a:off x="5181480" y="1828800"/>
            <a:ext cx="324504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Board of Governors (cont’d)</a:t>
            </a:r>
            <a:endParaRPr b="0" lang="en-US" sz="4400" spc="-1" strike="noStrike">
              <a:solidFill>
                <a:srgbClr val="420000"/>
              </a:solidFill>
              <a:latin typeface="Times New Roman"/>
            </a:endParaRPr>
          </a:p>
        </p:txBody>
      </p:sp>
      <p:sp>
        <p:nvSpPr>
          <p:cNvPr id="121" name="PlaceHolder 2"/>
          <p:cNvSpPr>
            <a:spLocks noGrp="1"/>
          </p:cNvSpPr>
          <p:nvPr>
            <p:ph/>
          </p:nvPr>
        </p:nvSpPr>
        <p:spPr>
          <a:xfrm>
            <a:off x="457200" y="1447920"/>
            <a:ext cx="4572000" cy="4952880"/>
          </a:xfrm>
          <a:prstGeom prst="rect">
            <a:avLst/>
          </a:prstGeom>
          <a:noFill/>
          <a:ln w="0">
            <a:noFill/>
          </a:ln>
        </p:spPr>
        <p:txBody>
          <a:bodyPr anchor="t">
            <a:normAutofit/>
          </a:bodyPr>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includes (cont’d):</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ering consumer credit protection laws</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zing changes in banks’ reserve requirements</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ising Fed member banks and other financial entities</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zing changes in the Fed’s discount rate</a:t>
            </a:r>
            <a:endParaRPr b="0" lang="en-US" sz="2400" spc="-1" strike="noStrike">
              <a:solidFill>
                <a:srgbClr val="000000"/>
              </a:solidFill>
              <a:latin typeface="Times New Roman"/>
            </a:endParaRPr>
          </a:p>
        </p:txBody>
      </p:sp>
      <p:pic>
        <p:nvPicPr>
          <p:cNvPr id="122" name="Picture 4" descr="boardroom_wh"/>
          <p:cNvPicPr/>
          <p:nvPr/>
        </p:nvPicPr>
        <p:blipFill>
          <a:blip r:embed="rId1"/>
          <a:stretch/>
        </p:blipFill>
        <p:spPr>
          <a:xfrm>
            <a:off x="5181480" y="1828800"/>
            <a:ext cx="324504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Where is my Fed?</a:t>
            </a:r>
            <a:endParaRPr b="0" lang="en-US" sz="4400" spc="-1" strike="noStrike">
              <a:solidFill>
                <a:srgbClr val="420000"/>
              </a:solidFill>
              <a:latin typeface="Times New Roman"/>
            </a:endParaRPr>
          </a:p>
        </p:txBody>
      </p:sp>
      <p:pic>
        <p:nvPicPr>
          <p:cNvPr id="124" name="Picture 75" descr="map"/>
          <p:cNvPicPr/>
          <p:nvPr/>
        </p:nvPicPr>
        <p:blipFill>
          <a:blip r:embed="rId1"/>
          <a:stretch/>
        </p:blipFill>
        <p:spPr>
          <a:xfrm>
            <a:off x="457200" y="1828800"/>
            <a:ext cx="8534520" cy="475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ederal Reserve Banks</a:t>
            </a:r>
            <a:endParaRPr b="0" lang="en-US" sz="4400" spc="-1" strike="noStrike">
              <a:solidFill>
                <a:srgbClr val="420000"/>
              </a:solidFill>
              <a:latin typeface="Times New Roman"/>
            </a:endParaRPr>
          </a:p>
        </p:txBody>
      </p:sp>
      <p:sp>
        <p:nvSpPr>
          <p:cNvPr id="126" name="PlaceHolder 2"/>
          <p:cNvSpPr>
            <a:spLocks noGrp="1"/>
          </p:cNvSpPr>
          <p:nvPr>
            <p:ph/>
          </p:nvPr>
        </p:nvSpPr>
        <p:spPr>
          <a:xfrm>
            <a:off x="456840" y="1828800"/>
            <a:ext cx="5334120" cy="457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e a nationwide payments system</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 the nation’s currency and coin</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ise and regulate member banks and bank holding companie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 as banker for the U.S. Treasury</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ibute to monetary policymaking through Bank presidents’ participation in the FOMC</a:t>
            </a:r>
            <a:endParaRPr b="0" lang="en-US" sz="2400" spc="-1" strike="noStrike">
              <a:solidFill>
                <a:srgbClr val="000000"/>
              </a:solidFill>
              <a:latin typeface="Times New Roman"/>
            </a:endParaRPr>
          </a:p>
        </p:txBody>
      </p:sp>
      <p:pic>
        <p:nvPicPr>
          <p:cNvPr id="127" name="Picture 9" descr="MCj02337780000[1]"/>
          <p:cNvPicPr/>
          <p:nvPr/>
        </p:nvPicPr>
        <p:blipFill>
          <a:blip r:embed="rId1"/>
          <a:stretch/>
        </p:blipFill>
        <p:spPr>
          <a:xfrm>
            <a:off x="5722920" y="2284560"/>
            <a:ext cx="3040200" cy="245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upervision &amp; Regulation</a:t>
            </a:r>
            <a:endParaRPr b="0" lang="en-US" sz="4400" spc="-1" strike="noStrike">
              <a:solidFill>
                <a:srgbClr val="420000"/>
              </a:solidFill>
              <a:latin typeface="Times New Roman"/>
            </a:endParaRPr>
          </a:p>
        </p:txBody>
      </p:sp>
      <p:sp>
        <p:nvSpPr>
          <p:cNvPr id="129" name="PlaceHolder 2"/>
          <p:cNvSpPr>
            <a:spLocks noGrp="1"/>
          </p:cNvSpPr>
          <p:nvPr>
            <p:ph/>
          </p:nvPr>
        </p:nvSpPr>
        <p:spPr>
          <a:xfrm>
            <a:off x="457200" y="1828800"/>
            <a:ext cx="4952880" cy="457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e safety and soundness of banking system along with other regulatory bodies</a:t>
            </a:r>
            <a:endParaRPr b="0" lang="en-US" sz="24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DIC, OCC, OTS, state banking regulators</a:t>
            </a:r>
            <a:endParaRPr b="0" lang="en-US" sz="20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compliance with laws and regulation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see international banking interest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er consumer credit protection laws</a:t>
            </a:r>
            <a:endParaRPr b="0" lang="en-US" sz="2400" spc="-1" strike="noStrike">
              <a:solidFill>
                <a:srgbClr val="000000"/>
              </a:solidFill>
              <a:latin typeface="Times New Roman"/>
            </a:endParaRPr>
          </a:p>
        </p:txBody>
      </p:sp>
      <p:pic>
        <p:nvPicPr>
          <p:cNvPr id="130" name="Picture 4" descr="supervision_pic01"/>
          <p:cNvPicPr/>
          <p:nvPr/>
        </p:nvPicPr>
        <p:blipFill>
          <a:blip r:embed="rId1"/>
          <a:stretch/>
        </p:blipFill>
        <p:spPr>
          <a:xfrm>
            <a:off x="5562720" y="2057400"/>
            <a:ext cx="327168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5T16:34:25Z</dcterms:created>
  <dc:creator>test</dc:creator>
  <dc:description/>
  <dc:language>en-US</dc:language>
  <cp:lastModifiedBy>Balazs, Stephen</cp:lastModifiedBy>
  <dcterms:modified xsi:type="dcterms:W3CDTF">2017-04-19T15:05:05Z</dcterms:modified>
  <cp:revision>58</cp:revision>
  <dc:subject/>
  <dc:title>Slide 1</dc:title>
</cp:coreProperties>
</file>